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8.gif" ContentType="image/gif"/>
  <Override PartName="/ppt/media/image73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5.wmf" ContentType="image/x-wmf"/>
  <Override PartName="/ppt/media/image34.wmf" ContentType="image/x-wmf"/>
  <Override PartName="/ppt/media/image77.png" ContentType="image/png"/>
  <Override PartName="/ppt/media/image1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png" ContentType="image/png"/>
  <Override PartName="/ppt/media/image24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62.wmf" ContentType="image/x-wmf"/>
  <Override PartName="/ppt/media/image76.wmf" ContentType="image/x-wmf"/>
  <Override PartName="/ppt/media/image27.wmf" ContentType="image/x-wmf"/>
  <Override PartName="/ppt/media/image64.wmf" ContentType="image/x-wmf"/>
  <Override PartName="/ppt/media/image75.wmf" ContentType="image/x-wmf"/>
  <Override PartName="/ppt/media/image5.png" ContentType="image/png"/>
  <Override PartName="/ppt/media/image26.wmf" ContentType="image/x-wmf"/>
  <Override PartName="/ppt/media/image63.wmf" ContentType="image/x-wmf"/>
  <Override PartName="/ppt/media/image74.wmf" ContentType="image/x-wmf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4.gif" ContentType="image/gif"/>
  <Override PartName="/ppt/media/image30.wmf" ContentType="image/x-wmf"/>
  <Override PartName="/ppt/media/image66.wmf" ContentType="image/x-wmf"/>
  <Override PartName="/ppt/media/image3.gif" ContentType="image/gif"/>
  <Override PartName="/ppt/media/image65.wmf" ContentType="image/x-wmf"/>
  <Override PartName="/ppt/media/image16.wmf" ContentType="image/x-wmf"/>
  <Override PartName="/ppt/media/image25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10.wmf" ContentType="image/x-wmf"/>
  <Override PartName="/ppt/media/image3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3C2-D10A-4F1E-9D37-8082B23A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A69-326B-4931-B07A-A3E5737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65A-AAB1-4D4F-AD16-DE08D6F0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7CA-21D3-4390-9441-2823DD58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E90-98C2-4C50-92CC-44A54DD0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9A8-E73C-4C0A-8E45-C756FA2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BDC-48CC-47D5-BA02-C26FAC3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420-8CD4-4276-BFC8-08922CA7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A8A-9BD3-4862-9B2E-001E7CE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8AB-4E89-49E0-A69B-9447003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DBB-C274-4684-9D64-D30ED8E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640-AADB-4AF5-8260-71FDEEB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BEF-058C-4490-8F3D-BEFEAF4ACF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23.xml"/><Relationship Id="rId7" Type="http://schemas.openxmlformats.org/officeDocument/2006/relationships/slide" Target="slide26.xml"/><Relationship Id="rId8" Type="http://schemas.openxmlformats.org/officeDocument/2006/relationships/slide" Target="slide29.xml"/><Relationship Id="rId9" Type="http://schemas.openxmlformats.org/officeDocument/2006/relationships/slide" Target="slide32.xml"/><Relationship Id="rId10" Type="http://schemas.openxmlformats.org/officeDocument/2006/relationships/slide" Target="slide35.xml"/><Relationship Id="rId11" Type="http://schemas.openxmlformats.org/officeDocument/2006/relationships/slide" Target="slide37.xml"/><Relationship Id="rId12" Type="http://schemas.openxmlformats.org/officeDocument/2006/relationships/slide" Target="slide7.xml"/><Relationship Id="rId13" Type="http://schemas.openxmlformats.org/officeDocument/2006/relationships/slide" Target="slide39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" Target="slide2.xml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1.wmf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image" Target="../media/image77.png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297000"/>
            <a:ext cx="42958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ÓRIA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851280" y="1989000"/>
            <a:ext cx="15238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042920" y="3753000"/>
            <a:ext cx="71722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JUNTOS</a:t>
            </a:r>
            <a:endParaRPr b="0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0" descr="ginterse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gunion"/>
          <p:cNvPicPr/>
          <p:nvPr/>
        </p:nvPicPr>
        <p:blipFill>
          <a:blip r:embed="rId3"/>
          <a:stretch/>
        </p:blipFill>
        <p:spPr>
          <a:xfrm>
            <a:off x="324000" y="225360"/>
            <a:ext cx="172692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44360" y="3682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tra forma de escribir es: </a:t>
            </a: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P = { x / x = dígito }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se lee “ P es el conjunto formado por los elementos x tal que x es un dígito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8000" y="1844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14172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2920" y="2492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ar por extensión y por comprensión el conjunto de días de la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8000" y="3537000"/>
            <a:ext cx="91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Extensión : D = { lunes; martes; miércoles; jueves; viernes; sábado; doming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1280" y="468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Comprensión : D = { x / x = día de la semana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1187280" y="152280"/>
            <a:ext cx="64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AGRAMAS DE VENN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50920" y="6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diagramas de Venn que se deben al filósofo inglés John Venn (1834-1883) sirven para representar conjuntos de manera gráfica mediante dibujos ó diagramas que pueden ser círculos, rectángulos, triángulos o cualquier curva cer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55640" y="4183200"/>
            <a:ext cx="2592360" cy="244944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 rot="2545200">
            <a:off x="3492360" y="4653000"/>
            <a:ext cx="2519640" cy="12240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940360" y="3862440"/>
            <a:ext cx="2640240" cy="2590920"/>
          </a:xfrm>
          <a:prstGeom prst="pie">
            <a:avLst/>
          </a:prstGeom>
          <a:solidFill>
            <a:srgbClr val="e7150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50920" y="4257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543640" y="396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600360" y="38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90000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2700360" y="598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835280" y="562464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55600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116000" y="598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4788000" y="48340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959280" y="47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464000" y="51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248000" y="44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5040360" y="5553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6372360" y="522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1;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7380360" y="512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7;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300720" y="4257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2;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7451640" y="4221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5;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1908000" y="4508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14032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11160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262728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3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8"/>
          <p:cNvSpPr/>
          <p:nvPr/>
        </p:nvSpPr>
        <p:spPr>
          <a:xfrm>
            <a:off x="216000" y="3465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     o A =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{  }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e lee: “A es el conjunto vacío”  o “A es el conjunto nulo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187280" y="333360"/>
            <a:ext cx="64803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ESPECIALE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800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V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436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un conjunto que no tiene elementos, también se le llama conjunto nulo. Generalmente se le representa por los símbolos:    o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{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1042920" y="3500280"/>
          <a:ext cx="3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00280"/>
                    <a:ext cx="3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2176560" y="2816280"/>
          <a:ext cx="37944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2816280"/>
                    <a:ext cx="379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10"/>
          <p:cNvSpPr/>
          <p:nvPr/>
        </p:nvSpPr>
        <p:spPr>
          <a:xfrm>
            <a:off x="144360" y="4565520"/>
            <a:ext cx="24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79280" y="5157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= { números mayores que 9 y menores que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8000" y="53737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42920" y="6186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 = { x /        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14"/>
          <p:cNvGraphicFramePr/>
          <p:nvPr/>
        </p:nvGraphicFramePr>
        <p:xfrm>
          <a:off x="1727280" y="6041880"/>
          <a:ext cx="9716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6041880"/>
                    <a:ext cx="9716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240"/>
                            </p:stCondLst>
                            <p:childTnLst>
                              <p:par>
                                <p:cTn id="4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08000" y="297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UN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08000" y="87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que tiene un solo ele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8000" y="1521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9280" y="2852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8000" y="2097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 = { x / 2x + 6 = 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067280" y="213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3"/>
          <p:cNvGraphicFramePr/>
          <p:nvPr/>
        </p:nvGraphicFramePr>
        <p:xfrm>
          <a:off x="4896000" y="2060640"/>
          <a:ext cx="34830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2060640"/>
                    <a:ext cx="3483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14"/>
          <p:cNvSpPr/>
          <p:nvPr/>
        </p:nvSpPr>
        <p:spPr>
          <a:xfrm>
            <a:off x="108000" y="278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FIN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42920" y="32497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con limitado número de ele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08000" y="42577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08000" y="48830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 = { x / x es un número impar positivo menor que 1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142920" y="59850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 = { x /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816360" y="21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142920" y="2253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INFIN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8000" y="7063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el conjunto con ilimitado número de ele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08000" y="1700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08000" y="2241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 = { x / x &lt; 6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276720" y="2241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 = { x / x es un número par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44360" y="296064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42920" y="342900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un conjunto referencial que contiene a todos los elementos de una situación particular, generalmente se le representa por la letra 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08000" y="54054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2016000" y="5408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universo o conjunto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059280" y="23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08000" y="5842080"/>
            <a:ext cx="885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todos los números es el conjunto de los NÚMEROS COMPLE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16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1187280" y="333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CIONES ENTRE CONJUNT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79280" y="112392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42920" y="1628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conjunto A esta incluido en otro conjunto B ,sí y sólo sí, todo elemento de A es también elemento d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44360" y="28386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TACIÓ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2484360" y="2852640"/>
          <a:ext cx="1152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52640"/>
                    <a:ext cx="115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11"/>
          <p:cNvSpPr/>
          <p:nvPr/>
        </p:nvSpPr>
        <p:spPr>
          <a:xfrm>
            <a:off x="179280" y="328464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lee : A esta incluido en B, A es subconjunto de B, A esta contenido en B , A es parte d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8000" y="429264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ÓN GRÁFIC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1042920" y="4869000"/>
            <a:ext cx="3960720" cy="1728720"/>
          </a:xfrm>
          <a:prstGeom prst="rect">
            <a:avLst/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1835280" y="5300640"/>
            <a:ext cx="23050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50920" y="5229360"/>
            <a:ext cx="46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11280" y="49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71505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92256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42920" y="152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8000" y="7286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) Todo conjunto está incluido en si mism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7667640" y="755640"/>
          <a:ext cx="122076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755640"/>
                    <a:ext cx="1220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8"/>
          <p:cNvSpPr/>
          <p:nvPr/>
        </p:nvSpPr>
        <p:spPr>
          <a:xfrm>
            <a:off x="108000" y="130500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I ) El conjunto vacío se considera incluido en cualquier conjunto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3672000" y="1736640"/>
          <a:ext cx="1119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2000" y="1736640"/>
                    <a:ext cx="1119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10"/>
          <p:cNvSpPr/>
          <p:nvPr/>
        </p:nvSpPr>
        <p:spPr>
          <a:xfrm>
            <a:off x="142920" y="2349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II ) A está incluido en B (           ) equivale a decir que B incluye a A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11"/>
          <p:cNvGraphicFramePr/>
          <p:nvPr/>
        </p:nvGraphicFramePr>
        <p:xfrm>
          <a:off x="4427640" y="2421000"/>
          <a:ext cx="115236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421000"/>
                    <a:ext cx="1152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2"/>
          <p:cNvGraphicFramePr/>
          <p:nvPr/>
        </p:nvGraphicFramePr>
        <p:xfrm>
          <a:off x="3419640" y="2889360"/>
          <a:ext cx="115236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2889360"/>
                    <a:ext cx="11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3"/>
          <p:cNvSpPr/>
          <p:nvPr/>
        </p:nvSpPr>
        <p:spPr>
          <a:xfrm>
            <a:off x="108000" y="3392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V ) Si A no está incluido en B o A no es subconjunto de B significa que por lo menos un elemento de A no pertenece a B.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4"/>
          <p:cNvGraphicFramePr/>
          <p:nvPr/>
        </p:nvGraphicFramePr>
        <p:xfrm>
          <a:off x="6012000" y="4365720"/>
          <a:ext cx="100800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4365720"/>
                    <a:ext cx="1008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15"/>
          <p:cNvSpPr/>
          <p:nvPr/>
        </p:nvSpPr>
        <p:spPr>
          <a:xfrm>
            <a:off x="250920" y="558972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06200" y="4905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 ) Simbólicam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18"/>
          <p:cNvGraphicFramePr/>
          <p:nvPr/>
        </p:nvGraphicFramePr>
        <p:xfrm>
          <a:off x="3743280" y="4976640"/>
          <a:ext cx="40323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3280" y="4976640"/>
                    <a:ext cx="4032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48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32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8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8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8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2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18"/>
          <p:cNvSpPr/>
          <p:nvPr/>
        </p:nvSpPr>
        <p:spPr>
          <a:xfrm rot="3401400">
            <a:off x="1669680" y="4403520"/>
            <a:ext cx="1258920" cy="1713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76360" y="2168640"/>
            <a:ext cx="7488000" cy="612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08000" y="149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S COMPA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79280" y="657360"/>
            <a:ext cx="86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conjunto A es COMPARABLE con otro conjunto B si entre dichos conjuntos existe  una relación de incl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4360" y="218916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es comparable con B 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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08000" y="296064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908000" y="310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={1;2;3;4;5}  y  B={2;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187280" y="3897360"/>
            <a:ext cx="2989440" cy="22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1476360" y="41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763640" y="530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419640" y="50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448000" y="46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309564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84360" y="386064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2771640" y="5481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4500720" y="4041720"/>
            <a:ext cx="37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Observa que B está incluido en A ,por lo tanto Ay B son COMPAR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108000" y="149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GUALDAD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08000" y="728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conjuntos son iguales si tienen los mismos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8000" y="16286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79280" y="216864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= { x / x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9 }    y  B = { x / (x – 3)(x + 3) =0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79280" y="274464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olviendo la ecuación de cada conjunto se obtiene en ambos casos que x es igual a 3 o -3, es decir : A = {-3;3}  y  B = {-3;3} ,por lo tanto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79280" y="4365720"/>
            <a:ext cx="32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mbólicamen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12"/>
          <p:cNvGraphicFramePr/>
          <p:nvPr/>
        </p:nvGraphicFramePr>
        <p:xfrm>
          <a:off x="3276720" y="4400640"/>
          <a:ext cx="453708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400640"/>
                    <a:ext cx="45370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4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5"/>
          <p:cNvSpPr/>
          <p:nvPr/>
        </p:nvSpPr>
        <p:spPr>
          <a:xfrm>
            <a:off x="108000" y="15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S DIS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08000" y="657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conjuntos son disjuntos cuando no tienen elementos comu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42920" y="17002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ÓN GRÁFIC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84360" y="2421000"/>
            <a:ext cx="223200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3348000" y="2457360"/>
            <a:ext cx="1871640" cy="2016360"/>
          </a:xfrm>
          <a:prstGeom prst="ellipse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50920" y="24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203640" y="23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547640" y="353700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1042920" y="26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900000" y="3357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979640" y="3357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1763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564000" y="335772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3995640" y="26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4103640" y="37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572000" y="31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364000" y="30337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5364000" y="22766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5364000" y="3789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5977080" y="2097000"/>
            <a:ext cx="305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mo puedes observar los conjuntos A y B no tienen elementos comunes, por lo tanto son CONJUNTOS DISJ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419640" y="11592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25440" y="620640"/>
          <a:ext cx="6623280" cy="5943600"/>
        </p:xfrm>
        <a:graphic>
          <a:graphicData uri="http://schemas.openxmlformats.org/drawingml/2006/table">
            <a:tbl>
              <a:tblPr/>
              <a:tblGrid>
                <a:gridCol w="5688000"/>
                <a:gridCol w="93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 DE PERTEN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CIO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AS DE VE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S ESPEC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NTR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S NUMÉ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CIÓN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DE CONJ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SIMÉT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O DE UN CONJU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d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AutoShape 393">
            <a:hlinkClick r:id="rId1" action="ppaction://hlinksldjump"/>
          </p:cNvPr>
          <p:cNvSpPr/>
          <p:nvPr/>
        </p:nvSpPr>
        <p:spPr>
          <a:xfrm>
            <a:off x="7020000" y="65736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4">
            <a:hlinkClick r:id="rId2" action="ppaction://hlinksldjump"/>
          </p:cNvPr>
          <p:cNvSpPr/>
          <p:nvPr/>
        </p:nvSpPr>
        <p:spPr>
          <a:xfrm>
            <a:off x="7020000" y="159228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5">
            <a:hlinkClick r:id="rId3" action="ppaction://hlinksldjump"/>
          </p:cNvPr>
          <p:cNvSpPr/>
          <p:nvPr/>
        </p:nvSpPr>
        <p:spPr>
          <a:xfrm>
            <a:off x="7020000" y="2060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96">
            <a:hlinkClick r:id="rId4" action="ppaction://hlinksldjump"/>
          </p:cNvPr>
          <p:cNvSpPr/>
          <p:nvPr/>
        </p:nvSpPr>
        <p:spPr>
          <a:xfrm>
            <a:off x="7020000" y="249228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97">
            <a:hlinkClick r:id="rId5" action="ppaction://hlinksldjump"/>
          </p:cNvPr>
          <p:cNvSpPr/>
          <p:nvPr/>
        </p:nvSpPr>
        <p:spPr>
          <a:xfrm>
            <a:off x="7020000" y="296064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98">
            <a:hlinkClick r:id="rId6" action="ppaction://hlinksldjump"/>
          </p:cNvPr>
          <p:cNvSpPr/>
          <p:nvPr/>
        </p:nvSpPr>
        <p:spPr>
          <a:xfrm>
            <a:off x="7020000" y="3392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9">
            <a:hlinkClick r:id="rId7" action="ppaction://hlinksldjump"/>
          </p:cNvPr>
          <p:cNvSpPr/>
          <p:nvPr/>
        </p:nvSpPr>
        <p:spPr>
          <a:xfrm>
            <a:off x="7020000" y="386064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0">
            <a:hlinkClick r:id="rId8" action="ppaction://hlinksldjump"/>
          </p:cNvPr>
          <p:cNvSpPr/>
          <p:nvPr/>
        </p:nvSpPr>
        <p:spPr>
          <a:xfrm>
            <a:off x="7020000" y="429264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01">
            <a:hlinkClick r:id="rId9" action="ppaction://hlinksldjump"/>
          </p:cNvPr>
          <p:cNvSpPr/>
          <p:nvPr/>
        </p:nvSpPr>
        <p:spPr>
          <a:xfrm>
            <a:off x="7020000" y="476100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02">
            <a:hlinkClick r:id="rId10" action="ppaction://hlinksldjump"/>
          </p:cNvPr>
          <p:cNvSpPr/>
          <p:nvPr/>
        </p:nvSpPr>
        <p:spPr>
          <a:xfrm>
            <a:off x="7020000" y="5229360"/>
            <a:ext cx="755640" cy="35856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5496" h="21600">
                <a:moveTo>
                  <a:pt x="0" y="0"/>
                </a:moveTo>
                <a:lnTo>
                  <a:pt x="45496" y="0"/>
                </a:lnTo>
                <a:lnTo>
                  <a:pt x="45496" y="21600"/>
                </a:lnTo>
                <a:lnTo>
                  <a:pt x="0" y="21600"/>
                </a:lnTo>
                <a:close/>
              </a:path>
              <a:path fill="lightenLess" w="45496" h="21600">
                <a:moveTo>
                  <a:pt x="0" y="0"/>
                </a:moveTo>
                <a:lnTo>
                  <a:pt x="45496" y="0"/>
                </a:lnTo>
                <a:lnTo>
                  <a:pt x="44096" y="1400"/>
                </a:lnTo>
                <a:lnTo>
                  <a:pt x="1400" y="1400"/>
                </a:lnTo>
                <a:close/>
              </a:path>
              <a:path fill="darken" w="45496" h="21600">
                <a:moveTo>
                  <a:pt x="45496" y="0"/>
                </a:moveTo>
                <a:lnTo>
                  <a:pt x="45496" y="21600"/>
                </a:lnTo>
                <a:lnTo>
                  <a:pt x="44096" y="20200"/>
                </a:lnTo>
                <a:lnTo>
                  <a:pt x="44096" y="1400"/>
                </a:lnTo>
                <a:close/>
              </a:path>
              <a:path fill="darkenLess" w="45496" h="21600">
                <a:moveTo>
                  <a:pt x="4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96" y="20200"/>
                </a:lnTo>
                <a:close/>
              </a:path>
              <a:path fill="lighten" w="4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96" h="21600">
                <a:moveTo>
                  <a:pt x="15742" y="3794"/>
                </a:moveTo>
                <a:lnTo>
                  <a:pt x="29755" y="10800"/>
                </a:lnTo>
                <a:lnTo>
                  <a:pt x="15742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03">
            <a:hlinkClick r:id="rId11" action="ppaction://hlinksldjump"/>
          </p:cNvPr>
          <p:cNvSpPr/>
          <p:nvPr/>
        </p:nvSpPr>
        <p:spPr>
          <a:xfrm>
            <a:off x="7020000" y="566100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04">
            <a:hlinkClick r:id="rId12" action="ppaction://hlinksldjump"/>
          </p:cNvPr>
          <p:cNvSpPr/>
          <p:nvPr/>
        </p:nvSpPr>
        <p:spPr>
          <a:xfrm>
            <a:off x="7020000" y="112536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05">
            <a:hlinkClick r:id="rId13" action="ppaction://hlinksldjump"/>
          </p:cNvPr>
          <p:cNvSpPr/>
          <p:nvPr/>
        </p:nvSpPr>
        <p:spPr>
          <a:xfrm>
            <a:off x="7020000" y="612936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3794"/>
                </a:moveTo>
                <a:lnTo>
                  <a:pt x="29732" y="10800"/>
                </a:lnTo>
                <a:lnTo>
                  <a:pt x="15719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144360" y="1494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200" y="657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 conjunto cuyos elementos son con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08000" y="119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42920" y="1773360"/>
            <a:ext cx="48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 = { {a};{b};{a; b};{a;b;c}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44360" y="231300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serva que los elementos del conjunto F también son con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2920" y="3284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a} es un elemento del conjunto F entonces {a}    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12"/>
          <p:cNvGraphicFramePr/>
          <p:nvPr/>
        </p:nvGraphicFramePr>
        <p:xfrm>
          <a:off x="8172360" y="3392640"/>
          <a:ext cx="3603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339264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3"/>
          <p:cNvSpPr/>
          <p:nvPr/>
        </p:nvSpPr>
        <p:spPr>
          <a:xfrm>
            <a:off x="503280" y="4005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Es correcto decir que {b}     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4"/>
          <p:cNvGraphicFramePr/>
          <p:nvPr/>
        </p:nvGraphicFramePr>
        <p:xfrm>
          <a:off x="5219640" y="4113360"/>
          <a:ext cx="43344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113360"/>
                    <a:ext cx="433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15"/>
          <p:cNvSpPr/>
          <p:nvPr/>
        </p:nvSpPr>
        <p:spPr>
          <a:xfrm>
            <a:off x="658800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42920" y="4689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que {b} es un elemento del conjunto F ,lo correcto es {b}    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7"/>
          <p:cNvGraphicFramePr/>
          <p:nvPr/>
        </p:nvGraphicFramePr>
        <p:xfrm>
          <a:off x="2735280" y="5229360"/>
          <a:ext cx="3603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5280" y="522936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6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4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44360" y="1494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NJUNTO PO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42920" y="72864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junto potencia de un conjunto A denotado por P(A) o Pot(A) es el conjunto formado por todos los subconjuntos d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08000" y="220500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a A = { m;n;p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22400" y="2816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subconjuntos de A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180360" y="32846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880560" y="32846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n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1493280" y="32846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138400" y="32846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n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324680" y="327024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n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3218040" y="32702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294880" y="32702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{m;n;p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6734880" y="32846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106200" y="4005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onces el conjunto potencia de 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108000" y="4565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(A) = { {m};{n};{p};{m;n};{m;p};{n;p};{m:n;p};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0" y="54817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CUÁNTOS ELEMENTOS TIENE EL CONJUNTO POTENCIA DE 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179280" y="15228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serva que el conjunto A tiene 3 elementos y su conjunto potencia osea P(A) tiene 8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08000" y="166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PI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08000" y="22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do un conjunto A cuyo número de elementos es n , entonces el número de elementos de su conjunto potencia es </a:t>
            </a: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2</a:t>
            </a:r>
            <a:r>
              <a:rPr b="1" lang="es-ES" sz="2800" spc="-1" strike="noStrike" baseline="30000">
                <a:solidFill>
                  <a:srgbClr val="e71505"/>
                </a:solidFill>
                <a:latin typeface="Arial"/>
              </a:rPr>
              <a:t>n</a:t>
            </a: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42920" y="37018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42920" y="4257720"/>
            <a:ext cx="93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do el conjunto B ={x / x es un número par y            5&lt; x &lt;15 }. Determinar el cardinal de P(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2987640" y="5408640"/>
            <a:ext cx="2592360" cy="574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059280" y="5445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24000" y="441360"/>
            <a:ext cx="4427280" cy="3384360"/>
          </a:xfrm>
          <a:prstGeom prst="wedgeRoundRectCallout">
            <a:avLst>
              <a:gd name="adj1" fmla="val 50930"/>
              <a:gd name="adj2" fmla="val 107129"/>
              <a:gd name="adj3" fmla="val 16667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58920" y="584280"/>
            <a:ext cx="41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5&lt;x&lt;15 y es un número par entonces B= {6;8;10;12;1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250920" y="180828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serva que el conjunto B tiene 5 elementos 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8920" y="30891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rd P(B)=n P(B)=2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8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3300"/>
                            </p:stCondLst>
                            <p:childTnLst>
                              <p:par>
                                <p:cTn id="113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395280" y="873000"/>
          <a:ext cx="8389800" cy="57492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Naturales ( N )        N={1;2;3;4;5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95280" y="1592280"/>
          <a:ext cx="8389800" cy="57636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Enteros ( Z )           Z={...;-2;-1;0;1;2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95280" y="2313000"/>
          <a:ext cx="8389800" cy="111600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Racionales (Q)                                               Q={...;-2;-1;     ;0;   ;    ; 1;    ;2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95280" y="3571920"/>
          <a:ext cx="8389800" cy="51732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Irracionales ( I )         I={...;               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Object 66"/>
          <p:cNvGraphicFramePr/>
          <p:nvPr/>
        </p:nvGraphicFramePr>
        <p:xfrm>
          <a:off x="6408720" y="3608280"/>
          <a:ext cx="158436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8720" y="3608280"/>
                    <a:ext cx="1584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5280" y="4255920"/>
          <a:ext cx="8389800" cy="111636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Reales ( R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={...;-2;-1;0;1;             ;2;3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Object 75"/>
          <p:cNvGraphicFramePr/>
          <p:nvPr/>
        </p:nvGraphicFramePr>
        <p:xfrm>
          <a:off x="3024360" y="4797360"/>
          <a:ext cx="133344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4360" y="4797360"/>
                    <a:ext cx="13334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78"/>
          <p:cNvGraphicFramePr/>
          <p:nvPr/>
        </p:nvGraphicFramePr>
        <p:xfrm>
          <a:off x="2340000" y="2708280"/>
          <a:ext cx="60336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7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2708280"/>
                    <a:ext cx="6033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79"/>
          <p:cNvGraphicFramePr/>
          <p:nvPr/>
        </p:nvGraphicFramePr>
        <p:xfrm>
          <a:off x="3311640" y="2708280"/>
          <a:ext cx="3096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1640" y="2708280"/>
                    <a:ext cx="309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80"/>
          <p:cNvGraphicFramePr/>
          <p:nvPr/>
        </p:nvGraphicFramePr>
        <p:xfrm>
          <a:off x="3755880" y="2708280"/>
          <a:ext cx="2876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Object 8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55880" y="2708280"/>
                    <a:ext cx="287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1"/>
          <p:cNvGraphicFramePr/>
          <p:nvPr/>
        </p:nvGraphicFramePr>
        <p:xfrm>
          <a:off x="4716360" y="2708280"/>
          <a:ext cx="30960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Object 8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2708280"/>
                    <a:ext cx="309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95280" y="5516640"/>
          <a:ext cx="8389800" cy="111600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s Complejos ( C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={...;-2;    ;0;1;             ;2+3i;3;....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Object 91"/>
          <p:cNvGraphicFramePr/>
          <p:nvPr/>
        </p:nvGraphicFramePr>
        <p:xfrm>
          <a:off x="3024360" y="6043680"/>
          <a:ext cx="13334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Object 9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24360" y="6043680"/>
                    <a:ext cx="13334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WordArt 92"/>
          <p:cNvSpPr txBox="1"/>
          <p:nvPr/>
        </p:nvSpPr>
        <p:spPr>
          <a:xfrm>
            <a:off x="1187280" y="152280"/>
            <a:ext cx="64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30" name="Object 93"/>
          <p:cNvGraphicFramePr/>
          <p:nvPr/>
        </p:nvGraphicFramePr>
        <p:xfrm>
          <a:off x="1871640" y="5967360"/>
          <a:ext cx="603360" cy="66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Object 9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1640" y="5967360"/>
                    <a:ext cx="6033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4"/>
          <p:cNvSpPr/>
          <p:nvPr/>
        </p:nvSpPr>
        <p:spPr>
          <a:xfrm>
            <a:off x="576360" y="981000"/>
            <a:ext cx="8208720" cy="543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3"/>
          <p:cNvSpPr/>
          <p:nvPr/>
        </p:nvSpPr>
        <p:spPr>
          <a:xfrm>
            <a:off x="1150920" y="1305000"/>
            <a:ext cx="7058160" cy="471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5400720" y="2529000"/>
            <a:ext cx="2484360" cy="187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>
            <a:off x="1332000" y="2168640"/>
            <a:ext cx="3924360" cy="309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0"/>
          <p:cNvSpPr/>
          <p:nvPr/>
        </p:nvSpPr>
        <p:spPr>
          <a:xfrm>
            <a:off x="1403280" y="2781360"/>
            <a:ext cx="2592360" cy="1800000"/>
          </a:xfrm>
          <a:prstGeom prst="ellipse">
            <a:avLst/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1187280" y="225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1511280" y="3141720"/>
            <a:ext cx="154800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6"/>
          <p:cNvSpPr/>
          <p:nvPr/>
        </p:nvSpPr>
        <p:spPr>
          <a:xfrm>
            <a:off x="1979640" y="364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7"/>
          <p:cNvSpPr/>
          <p:nvPr/>
        </p:nvSpPr>
        <p:spPr>
          <a:xfrm>
            <a:off x="3024360" y="2960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8"/>
          <p:cNvSpPr/>
          <p:nvPr/>
        </p:nvSpPr>
        <p:spPr>
          <a:xfrm>
            <a:off x="3816360" y="242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6048360" y="27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4932360" y="17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84360" y="10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2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4"/>
          <p:cNvSpPr txBox="1"/>
          <p:nvPr/>
        </p:nvSpPr>
        <p:spPr>
          <a:xfrm>
            <a:off x="1116000" y="152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 NUMÉRIC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79280" y="765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79280" y="1305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ar por extensión los siguientes conju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0" y="2060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8"/>
          <p:cNvGraphicFramePr/>
          <p:nvPr/>
        </p:nvGraphicFramePr>
        <p:xfrm>
          <a:off x="685800" y="2075040"/>
          <a:ext cx="403056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75040"/>
                    <a:ext cx="4030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11"/>
          <p:cNvSpPr/>
          <p:nvPr/>
        </p:nvSpPr>
        <p:spPr>
          <a:xfrm>
            <a:off x="0" y="2708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0" y="327024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0" y="39178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15"/>
          <p:cNvGraphicFramePr/>
          <p:nvPr/>
        </p:nvGraphicFramePr>
        <p:xfrm>
          <a:off x="671400" y="3897360"/>
          <a:ext cx="584532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3897360"/>
                    <a:ext cx="584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16"/>
          <p:cNvSpPr/>
          <p:nvPr/>
        </p:nvSpPr>
        <p:spPr>
          <a:xfrm>
            <a:off x="0" y="456552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7"/>
          <p:cNvGraphicFramePr/>
          <p:nvPr/>
        </p:nvGraphicFramePr>
        <p:xfrm>
          <a:off x="674640" y="4581360"/>
          <a:ext cx="5661000" cy="73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4640" y="4581360"/>
                    <a:ext cx="5661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8"/>
          <p:cNvGraphicFramePr/>
          <p:nvPr/>
        </p:nvGraphicFramePr>
        <p:xfrm>
          <a:off x="623880" y="2759040"/>
          <a:ext cx="409248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3880" y="2759040"/>
                    <a:ext cx="4092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685800" y="3300480"/>
          <a:ext cx="4030560" cy="58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300480"/>
                    <a:ext cx="40305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AutoShape 20"/>
          <p:cNvSpPr/>
          <p:nvPr/>
        </p:nvSpPr>
        <p:spPr>
          <a:xfrm>
            <a:off x="6443640" y="297000"/>
            <a:ext cx="1260360" cy="647640"/>
          </a:xfrm>
          <a:prstGeom prst="wedgeRectCallout">
            <a:avLst>
              <a:gd name="adj1" fmla="val -183625"/>
              <a:gd name="adj2" fmla="val 268629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6480000" y="33336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={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2"/>
          <p:cNvSpPr/>
          <p:nvPr/>
        </p:nvSpPr>
        <p:spPr>
          <a:xfrm>
            <a:off x="6659640" y="1305000"/>
            <a:ext cx="1908000" cy="647640"/>
          </a:xfrm>
          <a:prstGeom prst="wedgeRectCallout">
            <a:avLst>
              <a:gd name="adj1" fmla="val -150833"/>
              <a:gd name="adj2" fmla="val 22206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6659640" y="134136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={-3;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4"/>
          <p:cNvSpPr/>
          <p:nvPr/>
        </p:nvSpPr>
        <p:spPr>
          <a:xfrm>
            <a:off x="6300720" y="2421000"/>
            <a:ext cx="1366920" cy="612720"/>
          </a:xfrm>
          <a:prstGeom prst="wedgeRectCallout">
            <a:avLst>
              <a:gd name="adj1" fmla="val -164171"/>
              <a:gd name="adj2" fmla="val 144560"/>
            </a:avLst>
          </a:prstGeom>
          <a:solidFill>
            <a:srgbClr val="66ff33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300720" y="242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 = {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7"/>
          <p:cNvSpPr/>
          <p:nvPr/>
        </p:nvSpPr>
        <p:spPr>
          <a:xfrm>
            <a:off x="6877080" y="3176640"/>
            <a:ext cx="2016000" cy="1152360"/>
          </a:xfrm>
          <a:prstGeom prst="wedgeRectCallout">
            <a:avLst>
              <a:gd name="adj1" fmla="val -72439"/>
              <a:gd name="adj2" fmla="val 38703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9"/>
          <p:cNvGraphicFramePr/>
          <p:nvPr/>
        </p:nvGraphicFramePr>
        <p:xfrm>
          <a:off x="6921360" y="3249720"/>
          <a:ext cx="1898640" cy="96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1360" y="3249720"/>
                    <a:ext cx="1898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AutoShape 30"/>
          <p:cNvSpPr/>
          <p:nvPr/>
        </p:nvSpPr>
        <p:spPr>
          <a:xfrm>
            <a:off x="6804000" y="4581360"/>
            <a:ext cx="2160720" cy="649440"/>
          </a:xfrm>
          <a:prstGeom prst="wedgeRectCallout">
            <a:avLst>
              <a:gd name="adj1" fmla="val -74759"/>
              <a:gd name="adj2" fmla="val 330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32"/>
          <p:cNvGraphicFramePr/>
          <p:nvPr/>
        </p:nvGraphicFramePr>
        <p:xfrm>
          <a:off x="6845400" y="4616280"/>
          <a:ext cx="2119320" cy="62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4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5400" y="4616280"/>
                    <a:ext cx="21193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40"/>
          <p:cNvSpPr/>
          <p:nvPr/>
        </p:nvSpPr>
        <p:spPr>
          <a:xfrm>
            <a:off x="2951280" y="5734080"/>
            <a:ext cx="3095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2986200" y="57294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3">
            <a:hlinkClick r:id="rId15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Oval 65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solidFill>
            <a:srgbClr val="f2f6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6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solidFill>
            <a:srgbClr val="f2f6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8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343640" y="38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0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808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3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17"/>
          <p:cNvSpPr txBox="1"/>
          <p:nvPr/>
        </p:nvSpPr>
        <p:spPr>
          <a:xfrm>
            <a:off x="1619280" y="26028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ION DE CONJUNTO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unión B” que se representa asi               es el conjunto formado por todos los elementos que pertenecen a A,a B o a ambos conju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33"/>
          <p:cNvGraphicFramePr/>
          <p:nvPr/>
        </p:nvGraphicFramePr>
        <p:xfrm>
          <a:off x="7308720" y="836640"/>
          <a:ext cx="10638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836640"/>
                    <a:ext cx="10638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34"/>
          <p:cNvGraphicFramePr/>
          <p:nvPr/>
        </p:nvGraphicFramePr>
        <p:xfrm>
          <a:off x="1403280" y="6103800"/>
          <a:ext cx="5173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6103800"/>
                    <a:ext cx="5173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35"/>
          <p:cNvSpPr/>
          <p:nvPr/>
        </p:nvSpPr>
        <p:spPr>
          <a:xfrm>
            <a:off x="324000" y="206064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3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38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1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3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68436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6"/>
          <p:cNvSpPr/>
          <p:nvPr/>
        </p:nvSpPr>
        <p:spPr>
          <a:xfrm>
            <a:off x="133200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47"/>
          <p:cNvGraphicFramePr/>
          <p:nvPr/>
        </p:nvGraphicFramePr>
        <p:xfrm>
          <a:off x="1332000" y="5445000"/>
          <a:ext cx="57783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5445000"/>
                    <a:ext cx="57783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Oval 64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7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10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151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1514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151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151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152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1522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1526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152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1530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153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153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1536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1538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154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19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UNIÓN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4067280" y="4327560"/>
            <a:ext cx="424980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2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5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6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7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8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9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0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2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4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6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7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468360" y="189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ROPIEDADES DE LA UNIÓN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08000" y="159228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08000" y="2201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= B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08000" y="2781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06200" y="3392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U =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06200" y="4002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  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06200" y="465300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.  Si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A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B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2" descr="Imagen2a"/>
          <p:cNvPicPr/>
          <p:nvPr/>
        </p:nvPicPr>
        <p:blipFill>
          <a:blip r:embed="rId1"/>
          <a:stretch/>
        </p:blipFill>
        <p:spPr>
          <a:xfrm>
            <a:off x="6156360" y="1665360"/>
            <a:ext cx="1533600" cy="372564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13">
            <a:hlinkClick r:id="rId2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33"/>
          <p:cNvSpPr/>
          <p:nvPr/>
        </p:nvSpPr>
        <p:spPr>
          <a:xfrm>
            <a:off x="4357800" y="3324240"/>
            <a:ext cx="1442880" cy="1700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0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intersección  B” que se representa        es el conjunto formado por todos los elementos que pertenecen a A  y pertenecen 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15"/>
          <p:cNvGraphicFramePr/>
          <p:nvPr/>
        </p:nvGraphicFramePr>
        <p:xfrm>
          <a:off x="7756560" y="836640"/>
          <a:ext cx="106344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56560" y="836640"/>
                    <a:ext cx="10634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6"/>
          <p:cNvGraphicFramePr/>
          <p:nvPr/>
        </p:nvGraphicFramePr>
        <p:xfrm>
          <a:off x="1403280" y="6103800"/>
          <a:ext cx="5173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6103800"/>
                    <a:ext cx="5173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17"/>
          <p:cNvSpPr/>
          <p:nvPr/>
        </p:nvSpPr>
        <p:spPr>
          <a:xfrm>
            <a:off x="32400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18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19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Object 26"/>
          <p:cNvGraphicFramePr/>
          <p:nvPr/>
        </p:nvGraphicFramePr>
        <p:xfrm>
          <a:off x="2624040" y="5445000"/>
          <a:ext cx="3192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4040" y="5445000"/>
                    <a:ext cx="319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Oval 27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8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29"/>
          <p:cNvSpPr txBox="1"/>
          <p:nvPr/>
        </p:nvSpPr>
        <p:spPr>
          <a:xfrm>
            <a:off x="1547640" y="189000"/>
            <a:ext cx="612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SECCION DE 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1831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1833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183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1837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1839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1841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43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1845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1847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1849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185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1853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185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185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1859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547640" y="33336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9640" y="132372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matemáticas el concepto de conjunto es considerado primitivo y no se da una definición de este, por lo tanto la palabra CONJUNTO debe aceptarse lógicamente como un término no defini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32"/>
          <p:cNvSpPr/>
          <p:nvPr/>
        </p:nvSpPr>
        <p:spPr>
          <a:xfrm>
            <a:off x="1889280" y="2241720"/>
            <a:ext cx="966600" cy="1098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INTERSECCIÓN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0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4067280" y="4327560"/>
            <a:ext cx="424980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8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1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3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34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258920" y="57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=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468360" y="189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ROPIEDADES DE LA INTERSECCIÓN DE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08000" y="159228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08000" y="2201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= B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08000" y="2781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06200" y="3392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  A 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U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106200" y="4002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  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06200" y="461628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=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285840" y="515448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=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1" descr="blueman"/>
          <p:cNvPicPr/>
          <p:nvPr/>
        </p:nvPicPr>
        <p:blipFill>
          <a:blip r:embed="rId1"/>
          <a:stretch/>
        </p:blipFill>
        <p:spPr>
          <a:xfrm>
            <a:off x="5651640" y="1881360"/>
            <a:ext cx="2573280" cy="320328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12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2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3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29"/>
          <p:cNvSpPr/>
          <p:nvPr/>
        </p:nvSpPr>
        <p:spPr>
          <a:xfrm>
            <a:off x="2624040" y="3135240"/>
            <a:ext cx="2492640" cy="2021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menos  B” que se representa                  es el conjunto formado por todos los elementos que pertenecen a A y  no pertenecen 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3"/>
          <p:cNvGraphicFramePr/>
          <p:nvPr/>
        </p:nvGraphicFramePr>
        <p:xfrm>
          <a:off x="7085160" y="836640"/>
          <a:ext cx="10062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5160" y="836640"/>
                    <a:ext cx="10062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"/>
          <p:cNvGraphicFramePr/>
          <p:nvPr/>
        </p:nvGraphicFramePr>
        <p:xfrm>
          <a:off x="1436760" y="6103800"/>
          <a:ext cx="51051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103800"/>
                    <a:ext cx="5105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Text Box 15"/>
          <p:cNvSpPr/>
          <p:nvPr/>
        </p:nvSpPr>
        <p:spPr>
          <a:xfrm>
            <a:off x="324000" y="206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24"/>
          <p:cNvGraphicFramePr/>
          <p:nvPr/>
        </p:nvGraphicFramePr>
        <p:xfrm>
          <a:off x="2473200" y="5445000"/>
          <a:ext cx="34941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3200" y="5445000"/>
                    <a:ext cx="3494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28"/>
          <p:cNvSpPr txBox="1"/>
          <p:nvPr/>
        </p:nvSpPr>
        <p:spPr>
          <a:xfrm>
            <a:off x="1476360" y="152280"/>
            <a:ext cx="604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FERENCIA DE CONJUNTO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0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45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14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149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15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153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155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157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59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161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163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165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167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16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171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173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175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28"/>
          <p:cNvSpPr/>
          <p:nvPr/>
        </p:nvSpPr>
        <p:spPr>
          <a:xfrm>
            <a:off x="4983120" y="3278160"/>
            <a:ext cx="1533600" cy="1809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B  menos  A” que se representa                   es el conjunto formado por todos los elementos que pertenecen a B y no pertenecen 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Object 13"/>
          <p:cNvGraphicFramePr/>
          <p:nvPr/>
        </p:nvGraphicFramePr>
        <p:xfrm>
          <a:off x="7013520" y="836640"/>
          <a:ext cx="10065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3520" y="836640"/>
                    <a:ext cx="100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1436760" y="6103800"/>
          <a:ext cx="51051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103800"/>
                    <a:ext cx="5105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15"/>
          <p:cNvSpPr/>
          <p:nvPr/>
        </p:nvSpPr>
        <p:spPr>
          <a:xfrm>
            <a:off x="324000" y="2060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24"/>
          <p:cNvGraphicFramePr/>
          <p:nvPr/>
        </p:nvGraphicFramePr>
        <p:xfrm>
          <a:off x="2876400" y="5445000"/>
          <a:ext cx="26877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6400" y="5445000"/>
                    <a:ext cx="2687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27"/>
          <p:cNvSpPr txBox="1"/>
          <p:nvPr/>
        </p:nvSpPr>
        <p:spPr>
          <a:xfrm>
            <a:off x="2016000" y="152280"/>
            <a:ext cx="45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A-B=B-A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0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80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282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284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286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288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29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292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9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296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298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300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302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304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306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30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310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reeform 32"/>
          <p:cNvSpPr/>
          <p:nvPr/>
        </p:nvSpPr>
        <p:spPr>
          <a:xfrm>
            <a:off x="757080" y="2128680"/>
            <a:ext cx="1600200" cy="130680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79280" y="152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RESENTACIONES GRÁFICAS DE LA DIFERENCIA DE CON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08000" y="1135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no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58920" y="1736640"/>
            <a:ext cx="39258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>
            <a:off x="1906560" y="2133720"/>
            <a:ext cx="2052720" cy="1333440"/>
          </a:xfrm>
          <a:prstGeom prst="hexagon">
            <a:avLst>
              <a:gd name="adj" fmla="val 38485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040360" y="1736640"/>
            <a:ext cx="3348000" cy="226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9"/>
          <p:cNvSpPr/>
          <p:nvPr/>
        </p:nvSpPr>
        <p:spPr>
          <a:xfrm>
            <a:off x="755640" y="2133720"/>
            <a:ext cx="20876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4753080" y="1089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A y B son com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4067280" y="4327560"/>
            <a:ext cx="4068720" cy="21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2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35f3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250920" y="4869000"/>
            <a:ext cx="36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 A y B son conjuntos disj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35892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4067280" y="43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7"/>
          <p:cNvSpPr/>
          <p:nvPr/>
        </p:nvSpPr>
        <p:spPr>
          <a:xfrm>
            <a:off x="5040360" y="1736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8"/>
          <p:cNvSpPr/>
          <p:nvPr/>
        </p:nvSpPr>
        <p:spPr>
          <a:xfrm>
            <a:off x="684360" y="31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7236000" y="1916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5003640" y="4329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1"/>
          <p:cNvSpPr/>
          <p:nvPr/>
        </p:nvSpPr>
        <p:spPr>
          <a:xfrm>
            <a:off x="7451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2"/>
          <p:cNvSpPr/>
          <p:nvPr/>
        </p:nvSpPr>
        <p:spPr>
          <a:xfrm>
            <a:off x="3564000" y="19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3"/>
          <p:cNvSpPr/>
          <p:nvPr/>
        </p:nvSpPr>
        <p:spPr>
          <a:xfrm>
            <a:off x="1692360" y="39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4"/>
          <p:cNvSpPr/>
          <p:nvPr/>
        </p:nvSpPr>
        <p:spPr>
          <a:xfrm>
            <a:off x="615636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5"/>
          <p:cNvSpPr/>
          <p:nvPr/>
        </p:nvSpPr>
        <p:spPr>
          <a:xfrm>
            <a:off x="5219640" y="1916280"/>
            <a:ext cx="2916360" cy="194436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6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a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5832360" y="267336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8"/>
          <p:cNvSpPr/>
          <p:nvPr/>
        </p:nvSpPr>
        <p:spPr>
          <a:xfrm>
            <a:off x="6264360" y="2421000"/>
            <a:ext cx="1044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9"/>
          <p:cNvSpPr/>
          <p:nvPr/>
        </p:nvSpPr>
        <p:spPr>
          <a:xfrm>
            <a:off x="1258920" y="57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 - B=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6551640" y="4545000"/>
            <a:ext cx="1260360" cy="1728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4"/>
          <p:cNvSpPr/>
          <p:nvPr/>
        </p:nvSpPr>
        <p:spPr>
          <a:xfrm>
            <a:off x="4500720" y="4797360"/>
            <a:ext cx="1655640" cy="129564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5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6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0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29"/>
          <p:cNvSpPr/>
          <p:nvPr/>
        </p:nvSpPr>
        <p:spPr>
          <a:xfrm>
            <a:off x="2620800" y="3130560"/>
            <a:ext cx="2527560" cy="2033640"/>
          </a:xfrm>
          <a:prstGeom prst="pie">
            <a:avLst/>
          </a:prstGeom>
          <a:solidFill>
            <a:srgbClr val="35f3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4983120" y="3278160"/>
            <a:ext cx="1533600" cy="1809720"/>
          </a:xfrm>
          <a:prstGeom prst="pie">
            <a:avLst/>
          </a:prstGeom>
          <a:solidFill>
            <a:srgbClr val="35f3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2268360" y="3570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45344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694836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2340000" y="429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291636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324000" y="3141720"/>
            <a:ext cx="316836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6659640" y="3284640"/>
            <a:ext cx="216036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349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86774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324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onjunto “A  diferencia simétrica B ” que se representa              es el conjunto formado por todos los elementos que pertenecen a (A-B) o(B-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13"/>
          <p:cNvGraphicFramePr/>
          <p:nvPr/>
        </p:nvGraphicFramePr>
        <p:xfrm>
          <a:off x="2087640" y="1268280"/>
          <a:ext cx="86364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268280"/>
                    <a:ext cx="86364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4"/>
          <p:cNvGraphicFramePr/>
          <p:nvPr/>
        </p:nvGraphicFramePr>
        <p:xfrm>
          <a:off x="479520" y="6103800"/>
          <a:ext cx="70200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20" y="6103800"/>
                    <a:ext cx="70200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Text Box 15"/>
          <p:cNvSpPr/>
          <p:nvPr/>
        </p:nvSpPr>
        <p:spPr>
          <a:xfrm>
            <a:off x="324000" y="2060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Object 16"/>
          <p:cNvGraphicFramePr/>
          <p:nvPr/>
        </p:nvGraphicFramePr>
        <p:xfrm>
          <a:off x="826920" y="2492280"/>
          <a:ext cx="78505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492280"/>
                    <a:ext cx="78505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 Box 17"/>
          <p:cNvSpPr/>
          <p:nvPr/>
        </p:nvSpPr>
        <p:spPr>
          <a:xfrm>
            <a:off x="810108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8028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6877080" y="35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684360" y="41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863640" y="3462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133200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1511280" y="32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24"/>
          <p:cNvGraphicFramePr/>
          <p:nvPr/>
        </p:nvGraphicFramePr>
        <p:xfrm>
          <a:off x="1801800" y="5445000"/>
          <a:ext cx="483696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1800" y="5445000"/>
                    <a:ext cx="48369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Oval 25"/>
          <p:cNvSpPr/>
          <p:nvPr/>
        </p:nvSpPr>
        <p:spPr>
          <a:xfrm>
            <a:off x="4356000" y="3284640"/>
            <a:ext cx="216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6"/>
          <p:cNvSpPr/>
          <p:nvPr/>
        </p:nvSpPr>
        <p:spPr>
          <a:xfrm>
            <a:off x="2627280" y="3141720"/>
            <a:ext cx="316872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WordArt 28"/>
          <p:cNvSpPr txBox="1"/>
          <p:nvPr/>
        </p:nvSpPr>
        <p:spPr>
          <a:xfrm>
            <a:off x="1476360" y="260280"/>
            <a:ext cx="60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FERENCIA SIMETRIC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0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9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44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3.61111E-006 -1.48148E-006 E">
                                      <p:cBhvr>
                                        <p:cTn id="2546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-3.33333E-006 -2.96296E-006 E">
                                      <p:cBhvr>
                                        <p:cTn id="254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4.07407E-006 L 3.61111E-006 -4.07407E-006 E">
                                      <p:cBhvr>
                                        <p:cTn id="2550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11111E-006 L 4.16667E-006 1.11111E-006 E">
                                      <p:cBhvr>
                                        <p:cTn id="255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4.44444E-006 L 0.00208 -4.44444E-006 E">
                                      <p:cBhvr>
                                        <p:cTn id="2554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1.85185E-006 L -0.00972 1.85185E-006 E">
                                      <p:cBhvr>
                                        <p:cTn id="2556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58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9 4.44444E-006 L 0.00209 4.44444E-006 E">
                                      <p:cBhvr>
                                        <p:cTn id="2560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4.81481E-006 L -0.00191 4.81481E-006 E">
                                      <p:cBhvr>
                                        <p:cTn id="2562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1 1.85185E-006 L -0.01371 1.85185E-006 E">
                                      <p:cBhvr>
                                        <p:cTn id="2564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4.44444E-006 L -0.00208 -4.44444E-006 E">
                                      <p:cBhvr>
                                        <p:cTn id="256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2.59259E-006 L -0.24601 -2.59259E-006 E">
                                      <p:cBhvr>
                                        <p:cTn id="256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4.44444E-006 L -0.00208 4.44444E-006 E">
                                      <p:cBhvr>
                                        <p:cTn id="2570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3.7037E-007 L -0.00208 3.7037E-007 E">
                                      <p:cBhvr>
                                        <p:cTn id="2572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27 0.00024 L -3.88889E-006 -0.00023 E">
                                      <p:cBhvr>
                                        <p:cTn id="2574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Oval 17"/>
          <p:cNvSpPr/>
          <p:nvPr/>
        </p:nvSpPr>
        <p:spPr>
          <a:xfrm>
            <a:off x="863640" y="4473720"/>
            <a:ext cx="377964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6"/>
          <p:cNvSpPr/>
          <p:nvPr/>
        </p:nvSpPr>
        <p:spPr>
          <a:xfrm>
            <a:off x="3384720" y="4473720"/>
            <a:ext cx="377964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8"/>
          <p:cNvSpPr/>
          <p:nvPr/>
        </p:nvSpPr>
        <p:spPr>
          <a:xfrm>
            <a:off x="3384720" y="4676760"/>
            <a:ext cx="1258560" cy="1243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3981600" y="1663560"/>
            <a:ext cx="3111480" cy="1657440"/>
          </a:xfrm>
          <a:prstGeom prst="pie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>
            <a:off x="900000" y="1665360"/>
            <a:ext cx="3094200" cy="16621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576360" y="26028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ambién es correcto afirmar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Object 5"/>
          <p:cNvGraphicFramePr/>
          <p:nvPr/>
        </p:nvGraphicFramePr>
        <p:xfrm>
          <a:off x="1655640" y="944640"/>
          <a:ext cx="470232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944640"/>
                    <a:ext cx="4702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6"/>
          <p:cNvGraphicFramePr/>
          <p:nvPr/>
        </p:nvGraphicFramePr>
        <p:xfrm>
          <a:off x="1727280" y="3716280"/>
          <a:ext cx="476892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716280"/>
                    <a:ext cx="4768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Oval 7"/>
          <p:cNvSpPr/>
          <p:nvPr/>
        </p:nvSpPr>
        <p:spPr>
          <a:xfrm>
            <a:off x="900000" y="1665360"/>
            <a:ext cx="378000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"/>
          <p:cNvSpPr/>
          <p:nvPr/>
        </p:nvSpPr>
        <p:spPr>
          <a:xfrm>
            <a:off x="3311640" y="166536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55640" y="1557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6840360" y="166536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1943280" y="21337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5111640" y="216864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863640" y="447372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9"/>
          <p:cNvSpPr/>
          <p:nvPr/>
        </p:nvSpPr>
        <p:spPr>
          <a:xfrm>
            <a:off x="3384720" y="4473720"/>
            <a:ext cx="3779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611280" y="4437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1"/>
          <p:cNvSpPr/>
          <p:nvPr/>
        </p:nvSpPr>
        <p:spPr>
          <a:xfrm>
            <a:off x="6804000" y="4400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0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9"/>
          <p:cNvSpPr txBox="1"/>
          <p:nvPr/>
        </p:nvSpPr>
        <p:spPr>
          <a:xfrm>
            <a:off x="1476360" y="225360"/>
            <a:ext cx="6048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LEMENTO DE UN CONJUNT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142920" y="774720"/>
            <a:ext cx="91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 un conjunto universal U y un conjunto A,se llama complemento de A al conjunto formado por todos los elementos del universo que no pertenecen al conjun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10800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tación: A’ o  A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142920" y="4689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179280" y="5337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 ={1;2;3;4;5;6;7;8;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4788000" y="53578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={1;3; 5; 7; 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140360" y="53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108000" y="350028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mból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0"/>
          <p:cNvGraphicFramePr/>
          <p:nvPr/>
        </p:nvGraphicFramePr>
        <p:xfrm>
          <a:off x="3311640" y="3525840"/>
          <a:ext cx="399564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3525840"/>
                    <a:ext cx="39956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Text Box 21"/>
          <p:cNvSpPr/>
          <p:nvPr/>
        </p:nvSpPr>
        <p:spPr>
          <a:xfrm>
            <a:off x="3276720" y="411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’ = U -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9" dur="indefinite" restart="never" nodeType="tmRoot">
          <p:childTnLst>
            <p:seq>
              <p:cTn id="2680" dur="indefinite" nodeType="mainSeq">
                <p:childTnLst>
                  <p:par>
                    <p:cTn id="2681" fill="hold">
                      <p:stCondLst>
                        <p:cond delay="0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1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5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6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7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fill="hold">
                            <p:stCondLst>
                              <p:cond delay="640"/>
                            </p:stCondLst>
                            <p:childTnLst>
                              <p:par>
                                <p:cTn id="2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2640"/>
                            </p:stCondLst>
                            <p:childTnLst>
                              <p:par>
                                <p:cTn id="2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900000" y="765000"/>
            <a:ext cx="4356360" cy="28083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3"/>
          <p:cNvSpPr/>
          <p:nvPr/>
        </p:nvSpPr>
        <p:spPr>
          <a:xfrm>
            <a:off x="1440000" y="1341360"/>
            <a:ext cx="302400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900000" y="765000"/>
            <a:ext cx="4356360" cy="2808360"/>
          </a:xfrm>
          <a:prstGeom prst="rect">
            <a:avLst/>
          </a:prstGeom>
          <a:solidFill>
            <a:srgbClr val="35f34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"/>
          <p:cNvSpPr/>
          <p:nvPr/>
        </p:nvSpPr>
        <p:spPr>
          <a:xfrm>
            <a:off x="1440000" y="1341360"/>
            <a:ext cx="302400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727280" y="1628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1079640" y="1341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2592360" y="141300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959280" y="2781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2376360" y="224172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1295280" y="2565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348000" y="1628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4500720" y="126828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419640" y="231300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431640" y="69228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3456000" y="9079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3456000" y="9079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5724360" y="184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’={2;4;6,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179280" y="3716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ES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358920" y="432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1.  (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358920" y="50101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2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358920" y="5586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3.  A</a:t>
            </a:r>
            <a:r>
              <a:rPr b="1" lang="es-ES" sz="32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3419640" y="4365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4.  U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3419640" y="501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5.  </a:t>
            </a:r>
            <a:r>
              <a:rPr b="1" lang="el-GR" sz="3200" spc="-1" strike="noStrike">
                <a:solidFill>
                  <a:srgbClr val="3333ff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’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es-ES" sz="3200" spc="-1" strike="noStrike">
                <a:solidFill>
                  <a:srgbClr val="3333ff"/>
                </a:solidFill>
                <a:latin typeface="Arial"/>
                <a:ea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0"/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4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8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0"/>
          <p:cNvSpPr/>
          <p:nvPr/>
        </p:nvSpPr>
        <p:spPr>
          <a:xfrm>
            <a:off x="1368360" y="2529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332000" y="31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1332000" y="37530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1332000" y="43354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1332000" y="49482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5">
            <a:hlinkClick r:id="" action="ppaction://hlinkshowjump?jump=nextslide"/>
          </p:cNvPr>
          <p:cNvSpPr/>
          <p:nvPr/>
        </p:nvSpPr>
        <p:spPr>
          <a:xfrm>
            <a:off x="5076720" y="2673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5076720" y="328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7"/>
          <p:cNvSpPr/>
          <p:nvPr/>
        </p:nvSpPr>
        <p:spPr>
          <a:xfrm>
            <a:off x="5076720" y="389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8"/>
          <p:cNvSpPr/>
          <p:nvPr/>
        </p:nvSpPr>
        <p:spPr>
          <a:xfrm>
            <a:off x="5076720" y="447372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9"/>
          <p:cNvSpPr/>
          <p:nvPr/>
        </p:nvSpPr>
        <p:spPr>
          <a:xfrm>
            <a:off x="5076720" y="508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0"/>
          <p:cNvSpPr/>
          <p:nvPr/>
        </p:nvSpPr>
        <p:spPr>
          <a:xfrm>
            <a:off x="1295280" y="5516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7150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1"/>
          <p:cNvSpPr/>
          <p:nvPr/>
        </p:nvSpPr>
        <p:spPr>
          <a:xfrm>
            <a:off x="5076720" y="5624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ShockwaveFlash1"/>
          <p:cNvGraphicFramePr/>
          <p:nvPr/>
        </p:nvGraphicFramePr>
        <p:xfrm>
          <a:off x="863640" y="81000"/>
          <a:ext cx="73072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81000"/>
                    <a:ext cx="7307280" cy="24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2920" y="33336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n conjunto se puede entender como una colección o agrupación bien definida de objetos de cualquier clase. Los objetos que forman un conjunto son llamados miembros o elementos del conju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2920" y="36878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Group of People"/>
          <p:cNvPicPr/>
          <p:nvPr/>
        </p:nvPicPr>
        <p:blipFill>
          <a:blip r:embed="rId1"/>
          <a:stretch/>
        </p:blipFill>
        <p:spPr>
          <a:xfrm>
            <a:off x="5975280" y="3838680"/>
            <a:ext cx="2125800" cy="200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79280" y="4437000"/>
            <a:ext cx="56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a figura adjunta tienes un Conjunto de 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936720" y="298080"/>
            <a:ext cx="80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los conjunt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= { 1; 4 ;7 ;10 ;  ... ;34}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 = { 2 ;4;6;...;2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 = { 3; 7;11;15;...;3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 Expresar B y C por  compren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) Calcular: n(B) + n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) Hallar: A </a:t>
            </a:r>
            <a:r>
              <a:rPr b="1" lang="es-ES" sz="36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B , C –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5" name="AutoShape 9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1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7" dur="indefinite" restart="never" nodeType="tmRoot">
          <p:childTnLst>
            <p:seq>
              <p:cTn id="2838" dur="indefinite" nodeType="mainSeq">
                <p:childTnLst>
                  <p:par>
                    <p:cTn id="2839" fill="hold">
                      <p:stCondLst>
                        <p:cond delay="0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500"/>
                            </p:stCondLst>
                            <p:childTnLst>
                              <p:par>
                                <p:cTn id="2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0"/>
          <p:cNvSpPr/>
          <p:nvPr/>
        </p:nvSpPr>
        <p:spPr>
          <a:xfrm>
            <a:off x="6767640" y="2673360"/>
            <a:ext cx="1800000" cy="719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9"/>
          <p:cNvSpPr/>
          <p:nvPr/>
        </p:nvSpPr>
        <p:spPr>
          <a:xfrm>
            <a:off x="6948360" y="5337000"/>
            <a:ext cx="1764000" cy="611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5"/>
          <p:cNvSpPr/>
          <p:nvPr/>
        </p:nvSpPr>
        <p:spPr>
          <a:xfrm>
            <a:off x="1332000" y="5337000"/>
            <a:ext cx="5435640" cy="6130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4"/>
          <p:cNvSpPr/>
          <p:nvPr/>
        </p:nvSpPr>
        <p:spPr>
          <a:xfrm>
            <a:off x="611280" y="2673360"/>
            <a:ext cx="5940360" cy="71928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132480" y="69228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A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142920" y="15228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imero analicemos cada conj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36"/>
          <p:cNvGrpSpPr/>
          <p:nvPr/>
        </p:nvGrpSpPr>
        <p:grpSpPr>
          <a:xfrm>
            <a:off x="395280" y="1305000"/>
            <a:ext cx="6902280" cy="1297080"/>
            <a:chOff x="395280" y="1305000"/>
            <a:chExt cx="6902280" cy="1297080"/>
          </a:xfrm>
        </p:grpSpPr>
        <p:graphicFrame>
          <p:nvGraphicFramePr>
            <p:cNvPr id="724" name="Object 27"/>
            <p:cNvGraphicFramePr/>
            <p:nvPr/>
          </p:nvGraphicFramePr>
          <p:xfrm>
            <a:off x="1547640" y="1305000"/>
            <a:ext cx="1248120" cy="12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1305000"/>
                      <a:ext cx="124812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6" name="Object 28"/>
            <p:cNvGraphicFramePr/>
            <p:nvPr/>
          </p:nvGraphicFramePr>
          <p:xfrm>
            <a:off x="2706840" y="1305000"/>
            <a:ext cx="1247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6840" y="130500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8" name="Object 29"/>
            <p:cNvGraphicFramePr/>
            <p:nvPr/>
          </p:nvGraphicFramePr>
          <p:xfrm>
            <a:off x="3780000" y="1305000"/>
            <a:ext cx="1547640" cy="12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80000" y="1305000"/>
                      <a:ext cx="154764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0" name="Object 30"/>
            <p:cNvGraphicFramePr/>
            <p:nvPr/>
          </p:nvGraphicFramePr>
          <p:xfrm>
            <a:off x="5699160" y="1305000"/>
            <a:ext cx="1598400" cy="12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1" name="Object 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99160" y="1305000"/>
                      <a:ext cx="15984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2" name="Object 31"/>
            <p:cNvGraphicFramePr/>
            <p:nvPr/>
          </p:nvGraphicFramePr>
          <p:xfrm>
            <a:off x="395280" y="1305000"/>
            <a:ext cx="1147680" cy="1297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3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5280" y="1305000"/>
                      <a:ext cx="114768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4" name="Text Box 32"/>
            <p:cNvSpPr/>
            <p:nvPr/>
          </p:nvSpPr>
          <p:spPr>
            <a:xfrm>
              <a:off x="5184720" y="152100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 Box 33"/>
          <p:cNvSpPr/>
          <p:nvPr/>
        </p:nvSpPr>
        <p:spPr>
          <a:xfrm>
            <a:off x="684360" y="2744640"/>
            <a:ext cx="58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{ 1+3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110520" y="350028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B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51"/>
          <p:cNvGrpSpPr/>
          <p:nvPr/>
        </p:nvGrpSpPr>
        <p:grpSpPr>
          <a:xfrm>
            <a:off x="453960" y="3968640"/>
            <a:ext cx="6951600" cy="1297080"/>
            <a:chOff x="453960" y="3968640"/>
            <a:chExt cx="6951600" cy="1297080"/>
          </a:xfrm>
        </p:grpSpPr>
        <p:graphicFrame>
          <p:nvGraphicFramePr>
            <p:cNvPr id="738" name="Object 38"/>
            <p:cNvGraphicFramePr/>
            <p:nvPr/>
          </p:nvGraphicFramePr>
          <p:xfrm>
            <a:off x="1655640" y="3968640"/>
            <a:ext cx="1247760" cy="1297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9" name="Object 3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5564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0" name="Object 39"/>
            <p:cNvGraphicFramePr/>
            <p:nvPr/>
          </p:nvGraphicFramePr>
          <p:xfrm>
            <a:off x="2814480" y="3968640"/>
            <a:ext cx="1247760" cy="1297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1" name="Object 3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1448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2" name="Object 40"/>
            <p:cNvGraphicFramePr/>
            <p:nvPr/>
          </p:nvGraphicFramePr>
          <p:xfrm>
            <a:off x="4037040" y="3968640"/>
            <a:ext cx="1247760" cy="129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43" name="Object 4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37040" y="3968640"/>
                      <a:ext cx="1247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41"/>
            <p:cNvGraphicFramePr/>
            <p:nvPr/>
          </p:nvGraphicFramePr>
          <p:xfrm>
            <a:off x="5807160" y="3968640"/>
            <a:ext cx="1598400" cy="1297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45" name="Object 4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07160" y="3968640"/>
                      <a:ext cx="15984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Object 42"/>
            <p:cNvGraphicFramePr/>
            <p:nvPr/>
          </p:nvGraphicFramePr>
          <p:xfrm>
            <a:off x="453960" y="3968640"/>
            <a:ext cx="1246320" cy="1297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47" name="Object 4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3960" y="3968640"/>
                      <a:ext cx="124632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Text Box 43"/>
            <p:cNvSpPr/>
            <p:nvPr/>
          </p:nvSpPr>
          <p:spPr>
            <a:xfrm>
              <a:off x="5292720" y="418464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44"/>
          <p:cNvSpPr/>
          <p:nvPr/>
        </p:nvSpPr>
        <p:spPr>
          <a:xfrm>
            <a:off x="1403280" y="5337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 2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7"/>
          <p:cNvSpPr/>
          <p:nvPr/>
        </p:nvSpPr>
        <p:spPr>
          <a:xfrm>
            <a:off x="6948360" y="53737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B)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8"/>
          <p:cNvSpPr/>
          <p:nvPr/>
        </p:nvSpPr>
        <p:spPr>
          <a:xfrm>
            <a:off x="6804000" y="27417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A)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0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"/>
                            </p:stCondLst>
                            <p:childTnLst>
                              <p:par>
                                <p:cTn id="2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6767640" y="2168640"/>
            <a:ext cx="1657080" cy="684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4"/>
          <p:cNvSpPr/>
          <p:nvPr/>
        </p:nvSpPr>
        <p:spPr>
          <a:xfrm>
            <a:off x="647640" y="2168640"/>
            <a:ext cx="5796000" cy="684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132480" y="18900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de C s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2"/>
          <p:cNvGrpSpPr/>
          <p:nvPr/>
        </p:nvGrpSpPr>
        <p:grpSpPr>
          <a:xfrm>
            <a:off x="743040" y="800280"/>
            <a:ext cx="6900840" cy="1296720"/>
            <a:chOff x="743040" y="800280"/>
            <a:chExt cx="6900840" cy="1296720"/>
          </a:xfrm>
        </p:grpSpPr>
        <p:graphicFrame>
          <p:nvGraphicFramePr>
            <p:cNvPr id="756" name="Object 6"/>
            <p:cNvGraphicFramePr/>
            <p:nvPr/>
          </p:nvGraphicFramePr>
          <p:xfrm>
            <a:off x="1908000" y="800280"/>
            <a:ext cx="1248120" cy="12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800280"/>
                      <a:ext cx="124812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8" name="Object 7"/>
            <p:cNvGraphicFramePr/>
            <p:nvPr/>
          </p:nvGraphicFramePr>
          <p:xfrm>
            <a:off x="3016080" y="800280"/>
            <a:ext cx="144792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16080" y="800280"/>
                      <a:ext cx="144792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0" name="Object 8"/>
            <p:cNvGraphicFramePr/>
            <p:nvPr/>
          </p:nvGraphicFramePr>
          <p:xfrm>
            <a:off x="4284720" y="800280"/>
            <a:ext cx="1547640" cy="129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84720" y="800280"/>
                      <a:ext cx="154764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9"/>
            <p:cNvGraphicFramePr/>
            <p:nvPr/>
          </p:nvGraphicFramePr>
          <p:xfrm>
            <a:off x="6145200" y="800280"/>
            <a:ext cx="1498680" cy="1296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5200" y="800280"/>
                      <a:ext cx="149868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Object 10"/>
            <p:cNvGraphicFramePr/>
            <p:nvPr/>
          </p:nvGraphicFramePr>
          <p:xfrm>
            <a:off x="743040" y="800280"/>
            <a:ext cx="1247760" cy="129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5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3040" y="800280"/>
                      <a:ext cx="1247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" name="Text Box 11"/>
            <p:cNvSpPr/>
            <p:nvPr/>
          </p:nvSpPr>
          <p:spPr>
            <a:xfrm>
              <a:off x="5651640" y="101592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13"/>
          <p:cNvSpPr/>
          <p:nvPr/>
        </p:nvSpPr>
        <p:spPr>
          <a:xfrm>
            <a:off x="646200" y="220500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 { 3+4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7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325440" y="300348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a) Expresar B y C por  compren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1332000" y="3645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 2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1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1332000" y="4184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 = { 3+4n / n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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7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361080" y="465300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b) Calcular: n(B) + n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1"/>
          <p:cNvSpPr/>
          <p:nvPr/>
        </p:nvSpPr>
        <p:spPr>
          <a:xfrm>
            <a:off x="6877080" y="2201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C)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3"/>
          <p:cNvSpPr/>
          <p:nvPr/>
        </p:nvSpPr>
        <p:spPr>
          <a:xfrm>
            <a:off x="1368360" y="530064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(B) + n(A) = 13 +12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4" dur="indefinite" restart="never" nodeType="tmRoot">
          <p:childTnLst>
            <p:seq>
              <p:cTn id="2945" dur="indefinite" nodeType="mainSeq">
                <p:childTnLst>
                  <p:par>
                    <p:cTn id="2946" fill="hold">
                      <p:stCondLst>
                        <p:cond delay="0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6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179280" y="9334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= {1;4;7;10;13;16;19;22;25;28;31;34}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 = {2;4;6;8;10;12;14;16;18;20;22;24;2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 = {3;7;11;15;19;23;27;3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239400" y="225360"/>
            <a:ext cx="48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) Hallar: A </a:t>
            </a:r>
            <a:r>
              <a:rPr b="1" lang="es-ES" sz="3600" spc="-1" strike="noStrike">
                <a:solidFill>
                  <a:srgbClr val="0000ff"/>
                </a:solidFill>
                <a:latin typeface="simbolo"/>
                <a:ea typeface="simbolo"/>
              </a:rPr>
              <a:t>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B , C –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1476360" y="37893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A </a:t>
            </a:r>
            <a:r>
              <a:rPr b="1" lang="es-ES" sz="3600" spc="-1" strike="noStrike">
                <a:solidFill>
                  <a:srgbClr val="e71505"/>
                </a:solidFill>
                <a:latin typeface="simbolo"/>
                <a:ea typeface="simbolo"/>
              </a:rPr>
              <a:t></a:t>
            </a: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 B = { 4;10;16;22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1332000" y="5877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C – A = { 3;11;15;23;27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1"/>
          <p:cNvSpPr/>
          <p:nvPr/>
        </p:nvSpPr>
        <p:spPr>
          <a:xfrm>
            <a:off x="108000" y="270828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A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B esta formado por los elementos comunes de A y B,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142920" y="4365720"/>
            <a:ext cx="86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C - A esta formado por los elementos de C que no pertenecen a A, 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4"/>
          <p:cNvSpPr/>
          <p:nvPr/>
        </p:nvSpPr>
        <p:spPr>
          <a:xfrm>
            <a:off x="7704000" y="591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8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3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2480"/>
                            </p:stCondLst>
                            <p:childTnLst>
                              <p:par>
                                <p:cTn id="3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9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4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6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2800"/>
                            </p:stCondLst>
                            <p:childTnLst>
                              <p:par>
                                <p:cTn id="3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5"/>
          <p:cNvSpPr/>
          <p:nvPr/>
        </p:nvSpPr>
        <p:spPr>
          <a:xfrm>
            <a:off x="1150920" y="2592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: G = { 1 ; {3} ; 5 ; {7;10} ;1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r si es verdadero o f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{3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{{7};10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) {{3};1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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) {1;5;11}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6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8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4"/>
          <p:cNvSpPr/>
          <p:nvPr/>
        </p:nvSpPr>
        <p:spPr>
          <a:xfrm>
            <a:off x="179280" y="152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que los elementos de 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2123640" y="728640"/>
            <a:ext cx="43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;  {3} ; 5 ; {7;10} ;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342108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DAD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142920" y="1341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1"/>
          <p:cNvSpPr/>
          <p:nvPr/>
        </p:nvSpPr>
        <p:spPr>
          <a:xfrm>
            <a:off x="2376360" y="19162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 VERDADERO  porque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cluido en todo los conju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3"/>
          <p:cNvSpPr/>
          <p:nvPr/>
        </p:nvSpPr>
        <p:spPr>
          <a:xfrm>
            <a:off x="2519280" y="299736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VERDADERO porque {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un elemento de de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3149640" y="4005360"/>
            <a:ext cx="523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 FALSO porque {{7};10}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es elemento d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8"/>
          <p:cNvSpPr/>
          <p:nvPr/>
        </p:nvSpPr>
        <p:spPr>
          <a:xfrm>
            <a:off x="3132000" y="50133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  <a:ea typeface="Times New Roman"/>
              </a:rPr>
              <a:t>es FAL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"/>
          <p:cNvSpPr/>
          <p:nvPr/>
        </p:nvSpPr>
        <p:spPr>
          <a:xfrm>
            <a:off x="213840" y="1989000"/>
            <a:ext cx="22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a)</a:t>
            </a:r>
            <a:r>
              <a:rPr b="1" lang="el-GR" sz="3200" spc="-1" strike="noStrike">
                <a:solidFill>
                  <a:srgbClr val="0000ff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178920" y="299736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b) {3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4"/>
          <p:cNvSpPr/>
          <p:nvPr/>
        </p:nvSpPr>
        <p:spPr>
          <a:xfrm>
            <a:off x="187200" y="4076640"/>
            <a:ext cx="30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) {{7};10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G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6"/>
          <p:cNvSpPr/>
          <p:nvPr/>
        </p:nvSpPr>
        <p:spPr>
          <a:xfrm>
            <a:off x="127800" y="497664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d) {{3};1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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8"/>
          <p:cNvSpPr/>
          <p:nvPr/>
        </p:nvSpPr>
        <p:spPr>
          <a:xfrm>
            <a:off x="141480" y="5661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e) {1;5;11}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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G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9"/>
          <p:cNvSpPr/>
          <p:nvPr/>
        </p:nvSpPr>
        <p:spPr>
          <a:xfrm>
            <a:off x="7704000" y="591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4" dur="indefinite" restart="never" nodeType="tmRoot">
          <p:childTnLst>
            <p:seq>
              <p:cTn id="3075" dur="indefinite" nodeType="mainSeq">
                <p:childTnLst>
                  <p:par>
                    <p:cTn id="3076" fill="hold">
                      <p:stCondLst>
                        <p:cond delay="0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500"/>
                            </p:stCondLst>
                            <p:childTnLst>
                              <p:par>
                                <p:cTn id="3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9" fill="hold">
                      <p:stCondLst>
                        <p:cond delay="indefinite"/>
                      </p:stCondLst>
                      <p:childTnLst>
                        <p:par>
                          <p:cTn id="3130" fill="hold">
                            <p:stCondLst>
                              <p:cond delay="0"/>
                            </p:stCondLst>
                            <p:childTnLst>
                              <p:par>
                                <p:cTn id="3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1258920" y="475200"/>
            <a:ext cx="63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los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= { x </a:t>
            </a:r>
            <a:r>
              <a:rPr b="1" lang="en-GB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 / 2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5x-3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= { x/4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 / -4&lt; x &lt; 21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 = { x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 / (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9)(x - 4)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Calcular: M - ( T – P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Calcular: Pot(M – 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Calcular: 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1441440" y="459000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8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3" name="Rectangle 9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0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4" dur="indefinite" restart="never" nodeType="tmRoot">
          <p:childTnLst>
            <p:seq>
              <p:cTn id="3135" dur="indefinite" nodeType="mainSeq">
                <p:childTnLst>
                  <p:par>
                    <p:cTn id="3136" fill="hold">
                      <p:stCondLst>
                        <p:cond delay="0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9"/>
          <p:cNvSpPr/>
          <p:nvPr/>
        </p:nvSpPr>
        <p:spPr>
          <a:xfrm>
            <a:off x="1511280" y="5985000"/>
            <a:ext cx="410544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4"/>
          <p:cNvSpPr/>
          <p:nvPr/>
        </p:nvSpPr>
        <p:spPr>
          <a:xfrm>
            <a:off x="6192720" y="3176640"/>
            <a:ext cx="190836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259200" y="7650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 = { x </a:t>
            </a:r>
            <a:r>
              <a:rPr b="1" lang="en-GB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Z / 2x</a:t>
            </a:r>
            <a:r>
              <a:rPr b="1" lang="es-E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+5x-3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179280" y="15228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alicemos cada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611280" y="1376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 5x – 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23"/>
          <p:cNvGrpSpPr/>
          <p:nvPr/>
        </p:nvGrpSpPr>
        <p:grpSpPr>
          <a:xfrm>
            <a:off x="612720" y="1844640"/>
            <a:ext cx="2365200" cy="1016280"/>
            <a:chOff x="612720" y="1844640"/>
            <a:chExt cx="2365200" cy="1016280"/>
          </a:xfrm>
        </p:grpSpPr>
        <p:sp>
          <p:nvSpPr>
            <p:cNvPr id="812" name="Rectangle 13"/>
            <p:cNvSpPr/>
            <p:nvPr/>
          </p:nvSpPr>
          <p:spPr>
            <a:xfrm>
              <a:off x="612720" y="1847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6"/>
            <p:cNvSpPr/>
            <p:nvPr/>
          </p:nvSpPr>
          <p:spPr>
            <a:xfrm>
              <a:off x="2220840" y="184464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 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9"/>
            <p:cNvSpPr/>
            <p:nvPr/>
          </p:nvSpPr>
          <p:spPr>
            <a:xfrm>
              <a:off x="2221200" y="227952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0"/>
            <p:cNvSpPr/>
            <p:nvPr/>
          </p:nvSpPr>
          <p:spPr>
            <a:xfrm>
              <a:off x="838080" y="22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1"/>
            <p:cNvSpPr/>
            <p:nvPr/>
          </p:nvSpPr>
          <p:spPr>
            <a:xfrm>
              <a:off x="1319400" y="2208240"/>
              <a:ext cx="826920" cy="358560"/>
            </a:xfrm>
            <a:prstGeom prst="line">
              <a:avLst/>
            </a:prstGeom>
            <a:ln w="9360">
              <a:solidFill>
                <a:srgbClr val="e7150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1282680" y="2242800"/>
              <a:ext cx="936720" cy="360360"/>
            </a:xfrm>
            <a:prstGeom prst="line">
              <a:avLst/>
            </a:prstGeom>
            <a:ln w="9360">
              <a:solidFill>
                <a:srgbClr val="e7150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Text Box 25"/>
          <p:cNvSpPr/>
          <p:nvPr/>
        </p:nvSpPr>
        <p:spPr>
          <a:xfrm>
            <a:off x="3492360" y="2205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28"/>
          <p:cNvGrpSpPr/>
          <p:nvPr/>
        </p:nvGrpSpPr>
        <p:grpSpPr>
          <a:xfrm>
            <a:off x="3635280" y="1611360"/>
            <a:ext cx="610920" cy="1711440"/>
            <a:chOff x="3635280" y="1611360"/>
            <a:chExt cx="610920" cy="1711440"/>
          </a:xfrm>
        </p:grpSpPr>
        <p:sp>
          <p:nvSpPr>
            <p:cNvPr id="820" name="Text Box 24"/>
            <p:cNvSpPr/>
            <p:nvPr/>
          </p:nvSpPr>
          <p:spPr>
            <a:xfrm>
              <a:off x="3635280" y="1611360"/>
              <a:ext cx="48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26"/>
            <p:cNvSpPr/>
            <p:nvPr/>
          </p:nvSpPr>
          <p:spPr>
            <a:xfrm>
              <a:off x="3656160" y="2116080"/>
              <a:ext cx="59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7"/>
            <p:cNvSpPr/>
            <p:nvPr/>
          </p:nvSpPr>
          <p:spPr>
            <a:xfrm>
              <a:off x="3635280" y="2619360"/>
              <a:ext cx="54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29"/>
          <p:cNvSpPr/>
          <p:nvPr/>
        </p:nvSpPr>
        <p:spPr>
          <a:xfrm>
            <a:off x="576360" y="27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2x-1)(x+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0"/>
          <p:cNvSpPr/>
          <p:nvPr/>
        </p:nvSpPr>
        <p:spPr>
          <a:xfrm>
            <a:off x="4176720" y="15890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x-1=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x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1"/>
          <p:cNvSpPr/>
          <p:nvPr/>
        </p:nvSpPr>
        <p:spPr>
          <a:xfrm>
            <a:off x="4321080" y="20239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x+3=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x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2"/>
          <p:cNvSpPr/>
          <p:nvPr/>
        </p:nvSpPr>
        <p:spPr>
          <a:xfrm>
            <a:off x="4067280" y="2637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que x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 , 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3"/>
          <p:cNvSpPr/>
          <p:nvPr/>
        </p:nvSpPr>
        <p:spPr>
          <a:xfrm>
            <a:off x="6265800" y="31766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= { -3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6"/>
          <p:cNvSpPr/>
          <p:nvPr/>
        </p:nvSpPr>
        <p:spPr>
          <a:xfrm>
            <a:off x="209520" y="3860640"/>
            <a:ext cx="47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M = { x/4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 / -4&lt; x &lt; 2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7"/>
          <p:cNvSpPr/>
          <p:nvPr/>
        </p:nvSpPr>
        <p:spPr>
          <a:xfrm>
            <a:off x="71280" y="4400640"/>
            <a:ext cx="900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o x/4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N entonces los valores de x son : 4 ; 8 ; 12 ; 16 ; 20  pero los elementos de M se obtienen dividiendo x entre 4,por lo tant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38"/>
          <p:cNvSpPr/>
          <p:nvPr/>
        </p:nvSpPr>
        <p:spPr>
          <a:xfrm>
            <a:off x="1619280" y="600408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= {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4" dur="indefinite" restart="never" nodeType="tmRoot">
          <p:childTnLst>
            <p:seq>
              <p:cTn id="3165" dur="indefinite" nodeType="mainSeq">
                <p:childTnLst>
                  <p:par>
                    <p:cTn id="3166" fill="hold">
                      <p:stCondLst>
                        <p:cond delay="0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2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2"/>
          <p:cNvSpPr/>
          <p:nvPr/>
        </p:nvSpPr>
        <p:spPr>
          <a:xfrm>
            <a:off x="684360" y="5805360"/>
            <a:ext cx="4356000" cy="64800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2771640" y="2997360"/>
            <a:ext cx="2592360" cy="64764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225000" y="18900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 = { x </a:t>
            </a:r>
            <a:r>
              <a:rPr b="1" lang="es-ES" sz="3200" spc="-1" strike="noStrike">
                <a:solidFill>
                  <a:srgbClr val="0000ff"/>
                </a:solidFill>
                <a:latin typeface="MT Symbol"/>
                <a:ea typeface="MT Symbol"/>
              </a:rPr>
              <a:t>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 / (x</a:t>
            </a:r>
            <a:r>
              <a:rPr b="1" lang="es-E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- 9)(x - 4)=0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73080" y="80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da factor lo igualamos a cero y calculamos los valores d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86360" y="184464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– 4 =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632880" y="24019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9 = 0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9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 = 3 o x 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142920" y="29606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4"/>
          <p:cNvSpPr/>
          <p:nvPr/>
        </p:nvSpPr>
        <p:spPr>
          <a:xfrm>
            <a:off x="2808720" y="29973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 = { -3;3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7"/>
          <p:cNvSpPr/>
          <p:nvPr/>
        </p:nvSpPr>
        <p:spPr>
          <a:xfrm>
            <a:off x="249480" y="389736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) Calcular: M - ( T – P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719280" y="450864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 – 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;3;4 } - { -3 }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 – 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 {3 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755640" y="51577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- (T –P)= {1 ; 2 ; 3 ; 4 ; 5 } - {3 ;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1"/>
          <p:cNvSpPr/>
          <p:nvPr/>
        </p:nvSpPr>
        <p:spPr>
          <a:xfrm>
            <a:off x="791640" y="580536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 - (T –P)= {1 ; 2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fill="hold">
                      <p:stCondLst>
                        <p:cond delay="0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6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4"/>
          <p:cNvSpPr/>
          <p:nvPr/>
        </p:nvSpPr>
        <p:spPr>
          <a:xfrm>
            <a:off x="395280" y="1952640"/>
            <a:ext cx="8389800" cy="115236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3"/>
          <p:cNvSpPr/>
          <p:nvPr/>
        </p:nvSpPr>
        <p:spPr>
          <a:xfrm>
            <a:off x="466560" y="5624640"/>
            <a:ext cx="5869080" cy="69192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177120" y="18900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b) Calcular: Pot( M – 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753840" y="80028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 - { -3;3;4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743400" y="134136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–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395280" y="1916280"/>
            <a:ext cx="53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t( M – T ) = { {1}; {2}; {5}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54472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2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655416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9"/>
          <p:cNvSpPr/>
          <p:nvPr/>
        </p:nvSpPr>
        <p:spPr>
          <a:xfrm>
            <a:off x="3312360" y="23842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1;2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1"/>
          <p:cNvSpPr/>
          <p:nvPr/>
        </p:nvSpPr>
        <p:spPr>
          <a:xfrm>
            <a:off x="7597440" y="1916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2;5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3"/>
          <p:cNvSpPr/>
          <p:nvPr/>
        </p:nvSpPr>
        <p:spPr>
          <a:xfrm>
            <a:off x="4752720" y="23814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5"/>
          <p:cNvSpPr/>
          <p:nvPr/>
        </p:nvSpPr>
        <p:spPr>
          <a:xfrm>
            <a:off x="50400" y="3284640"/>
            <a:ext cx="44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) Calcular: (M </a:t>
            </a:r>
            <a:r>
              <a:rPr b="1" lang="es-ES" sz="3200" spc="-1" strike="noStrike">
                <a:solidFill>
                  <a:srgbClr val="0000ff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T) –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6"/>
          <p:cNvSpPr/>
          <p:nvPr/>
        </p:nvSpPr>
        <p:spPr>
          <a:xfrm>
            <a:off x="820440" y="3860640"/>
            <a:ext cx="67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{ -3;3;4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7"/>
          <p:cNvSpPr/>
          <p:nvPr/>
        </p:nvSpPr>
        <p:spPr>
          <a:xfrm>
            <a:off x="734400" y="4400640"/>
            <a:ext cx="54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 ; 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1"/>
          <p:cNvSpPr/>
          <p:nvPr/>
        </p:nvSpPr>
        <p:spPr>
          <a:xfrm>
            <a:off x="588240" y="501336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 -3 ; 1 ; 2 ; 3 ; 4 ; 5 } -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{ -3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2"/>
          <p:cNvSpPr/>
          <p:nvPr/>
        </p:nvSpPr>
        <p:spPr>
          <a:xfrm>
            <a:off x="589680" y="5697360"/>
            <a:ext cx="56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M 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) – P =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{1 ; 2 ; 3 ; 4 ; 5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5"/>
          <p:cNvSpPr/>
          <p:nvPr/>
        </p:nvSpPr>
        <p:spPr>
          <a:xfrm>
            <a:off x="763272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0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08000" y="333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71280" y="10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odo conjunto se escribe entre llaves {  }  y se le denota mediante letras mayúsculas  A, B, C, ...,sus elementos se separan mediante punto y co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8000" y="3392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08000" y="4149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onjunto de las letras del alfabeto; a, b, c, ..., x, y, z. se puede escribir así: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910880" y="548100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={ a; b; c; ...; x; y; z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WordArt 4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1" name="Rectangle 28"/>
          <p:cNvSpPr/>
          <p:nvPr/>
        </p:nvSpPr>
        <p:spPr>
          <a:xfrm>
            <a:off x="934920" y="259200"/>
            <a:ext cx="78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ar la región sombreada en términos de operaciones entre los conjuntos A,B y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62"/>
          <p:cNvGrpSpPr/>
          <p:nvPr/>
        </p:nvGrpSpPr>
        <p:grpSpPr>
          <a:xfrm>
            <a:off x="468360" y="2133720"/>
            <a:ext cx="3833280" cy="3197160"/>
            <a:chOff x="468360" y="2133720"/>
            <a:chExt cx="3833280" cy="3197160"/>
          </a:xfrm>
        </p:grpSpPr>
        <p:sp>
          <p:nvSpPr>
            <p:cNvPr id="863" name="Freeform 38"/>
            <p:cNvSpPr/>
            <p:nvPr/>
          </p:nvSpPr>
          <p:spPr>
            <a:xfrm>
              <a:off x="2552400" y="3433680"/>
              <a:ext cx="1080720" cy="7621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9"/>
            <p:cNvSpPr/>
            <p:nvPr/>
          </p:nvSpPr>
          <p:spPr>
            <a:xfrm>
              <a:off x="1468080" y="3551400"/>
              <a:ext cx="1064880" cy="9396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0"/>
            <p:cNvSpPr/>
            <p:nvPr/>
          </p:nvSpPr>
          <p:spPr>
            <a:xfrm>
              <a:off x="2014200" y="2585880"/>
              <a:ext cx="711000" cy="9795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1"/>
            <p:cNvSpPr/>
            <p:nvPr/>
          </p:nvSpPr>
          <p:spPr>
            <a:xfrm>
              <a:off x="755280" y="2421000"/>
              <a:ext cx="1964880" cy="206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2"/>
            <p:cNvSpPr/>
            <p:nvPr/>
          </p:nvSpPr>
          <p:spPr>
            <a:xfrm>
              <a:off x="2017440" y="2320920"/>
              <a:ext cx="2096640" cy="1868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43"/>
            <p:cNvSpPr/>
            <p:nvPr/>
          </p:nvSpPr>
          <p:spPr>
            <a:xfrm>
              <a:off x="1485720" y="3443400"/>
              <a:ext cx="2191680" cy="1773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44"/>
            <p:cNvSpPr/>
            <p:nvPr/>
          </p:nvSpPr>
          <p:spPr>
            <a:xfrm>
              <a:off x="468360" y="2313000"/>
              <a:ext cx="5932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45"/>
            <p:cNvSpPr/>
            <p:nvPr/>
          </p:nvSpPr>
          <p:spPr>
            <a:xfrm>
              <a:off x="3708000" y="2133720"/>
              <a:ext cx="5936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46"/>
            <p:cNvSpPr/>
            <p:nvPr/>
          </p:nvSpPr>
          <p:spPr>
            <a:xfrm>
              <a:off x="3492360" y="4581360"/>
              <a:ext cx="593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67"/>
          <p:cNvGrpSpPr/>
          <p:nvPr/>
        </p:nvGrpSpPr>
        <p:grpSpPr>
          <a:xfrm>
            <a:off x="5003640" y="2097000"/>
            <a:ext cx="3827880" cy="3255840"/>
            <a:chOff x="5003640" y="2097000"/>
            <a:chExt cx="3827880" cy="3255840"/>
          </a:xfrm>
        </p:grpSpPr>
        <p:sp>
          <p:nvSpPr>
            <p:cNvPr id="873" name="Freeform 48"/>
            <p:cNvSpPr/>
            <p:nvPr/>
          </p:nvSpPr>
          <p:spPr>
            <a:xfrm>
              <a:off x="5965920" y="2506680"/>
              <a:ext cx="966600" cy="9381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9"/>
            <p:cNvSpPr/>
            <p:nvPr/>
          </p:nvSpPr>
          <p:spPr>
            <a:xfrm>
              <a:off x="6967440" y="2514600"/>
              <a:ext cx="1017720" cy="1095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0"/>
            <p:cNvSpPr/>
            <p:nvPr/>
          </p:nvSpPr>
          <p:spPr>
            <a:xfrm>
              <a:off x="7939080" y="3587760"/>
              <a:ext cx="787320" cy="765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1"/>
            <p:cNvSpPr/>
            <p:nvPr/>
          </p:nvSpPr>
          <p:spPr>
            <a:xfrm>
              <a:off x="7005600" y="4348080"/>
              <a:ext cx="963720" cy="844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"/>
            <p:cNvSpPr/>
            <p:nvPr/>
          </p:nvSpPr>
          <p:spPr>
            <a:xfrm>
              <a:off x="5883120" y="4186080"/>
              <a:ext cx="1070280" cy="1005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3"/>
            <p:cNvSpPr/>
            <p:nvPr/>
          </p:nvSpPr>
          <p:spPr>
            <a:xfrm>
              <a:off x="5208480" y="3475080"/>
              <a:ext cx="797040" cy="745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54"/>
            <p:cNvSpPr/>
            <p:nvPr/>
          </p:nvSpPr>
          <p:spPr>
            <a:xfrm>
              <a:off x="5003640" y="3249720"/>
              <a:ext cx="579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55"/>
            <p:cNvSpPr/>
            <p:nvPr/>
          </p:nvSpPr>
          <p:spPr>
            <a:xfrm>
              <a:off x="6494400" y="3543480"/>
              <a:ext cx="971640" cy="5904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56"/>
            <p:cNvSpPr/>
            <p:nvPr/>
          </p:nvSpPr>
          <p:spPr>
            <a:xfrm>
              <a:off x="6119640" y="2097000"/>
              <a:ext cx="6051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57"/>
            <p:cNvSpPr/>
            <p:nvPr/>
          </p:nvSpPr>
          <p:spPr>
            <a:xfrm>
              <a:off x="6156360" y="3321000"/>
              <a:ext cx="6382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58"/>
            <p:cNvSpPr/>
            <p:nvPr/>
          </p:nvSpPr>
          <p:spPr>
            <a:xfrm rot="16200000">
              <a:off x="5239440" y="2472120"/>
              <a:ext cx="2662200" cy="27748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e71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59"/>
            <p:cNvSpPr/>
            <p:nvPr/>
          </p:nvSpPr>
          <p:spPr>
            <a:xfrm rot="5622600">
              <a:off x="6029280" y="2546640"/>
              <a:ext cx="2660760" cy="277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63"/>
          <p:cNvSpPr/>
          <p:nvPr/>
        </p:nvSpPr>
        <p:spPr>
          <a:xfrm>
            <a:off x="4643280" y="2168640"/>
            <a:ext cx="0" cy="31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4"/>
          <p:cNvSpPr/>
          <p:nvPr/>
        </p:nvSpPr>
        <p:spPr>
          <a:xfrm>
            <a:off x="2409840" y="5732640"/>
            <a:ext cx="4249800" cy="75708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65">
            <a:hlinkClick r:id="" action="ppaction://hlinkshowjump?jump=nextslide"/>
          </p:cNvPr>
          <p:cNvSpPr/>
          <p:nvPr/>
        </p:nvSpPr>
        <p:spPr>
          <a:xfrm>
            <a:off x="5002200" y="5805360"/>
            <a:ext cx="1549440" cy="61308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54570" h="21600">
                <a:moveTo>
                  <a:pt x="0" y="0"/>
                </a:moveTo>
                <a:lnTo>
                  <a:pt x="54570" y="0"/>
                </a:lnTo>
                <a:lnTo>
                  <a:pt x="54570" y="21600"/>
                </a:lnTo>
                <a:lnTo>
                  <a:pt x="0" y="21600"/>
                </a:lnTo>
                <a:close/>
              </a:path>
              <a:path fill="lightenLess" w="54570" h="21600">
                <a:moveTo>
                  <a:pt x="0" y="0"/>
                </a:moveTo>
                <a:lnTo>
                  <a:pt x="54570" y="0"/>
                </a:lnTo>
                <a:lnTo>
                  <a:pt x="53170" y="1400"/>
                </a:lnTo>
                <a:lnTo>
                  <a:pt x="1400" y="1400"/>
                </a:lnTo>
                <a:close/>
              </a:path>
              <a:path fill="darken" w="54570" h="21600">
                <a:moveTo>
                  <a:pt x="54570" y="0"/>
                </a:moveTo>
                <a:lnTo>
                  <a:pt x="54570" y="21600"/>
                </a:lnTo>
                <a:lnTo>
                  <a:pt x="53170" y="20200"/>
                </a:lnTo>
                <a:lnTo>
                  <a:pt x="53170" y="1400"/>
                </a:lnTo>
                <a:close/>
              </a:path>
              <a:path fill="darkenLess" w="54570" h="21600">
                <a:moveTo>
                  <a:pt x="54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70" y="20200"/>
                </a:lnTo>
                <a:close/>
              </a:path>
              <a:path fill="lighten" w="54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570" h="21600">
                <a:moveTo>
                  <a:pt x="20279" y="3794"/>
                </a:moveTo>
                <a:lnTo>
                  <a:pt x="34292" y="10800"/>
                </a:lnTo>
                <a:lnTo>
                  <a:pt x="20279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6"/>
          <p:cNvSpPr/>
          <p:nvPr/>
        </p:nvSpPr>
        <p:spPr>
          <a:xfrm>
            <a:off x="2554200" y="576900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0" dur="indefinite" restart="never" nodeType="tmRoot">
          <p:childTnLst>
            <p:seq>
              <p:cTn id="3401" dur="indefinite" nodeType="mainSeq">
                <p:childTnLst>
                  <p:par>
                    <p:cTn id="3402" fill="hold">
                      <p:stCondLst>
                        <p:cond delay="0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4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94"/>
          <p:cNvSpPr/>
          <p:nvPr/>
        </p:nvSpPr>
        <p:spPr>
          <a:xfrm>
            <a:off x="1403280" y="5734080"/>
            <a:ext cx="7453440" cy="826920"/>
          </a:xfrm>
          <a:prstGeom prst="rect">
            <a:avLst/>
          </a:prstGeom>
          <a:solidFill>
            <a:srgbClr val="f2fb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7"/>
          <p:cNvSpPr/>
          <p:nvPr/>
        </p:nvSpPr>
        <p:spPr>
          <a:xfrm>
            <a:off x="1036800" y="3970440"/>
            <a:ext cx="1015920" cy="84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88"/>
          <p:cNvSpPr/>
          <p:nvPr/>
        </p:nvSpPr>
        <p:spPr>
          <a:xfrm>
            <a:off x="1476360" y="3103560"/>
            <a:ext cx="1695600" cy="1471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9"/>
          <p:cNvSpPr/>
          <p:nvPr/>
        </p:nvSpPr>
        <p:spPr>
          <a:xfrm>
            <a:off x="7064280" y="1231920"/>
            <a:ext cx="1271520" cy="568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50"/>
          <p:cNvSpPr/>
          <p:nvPr/>
        </p:nvSpPr>
        <p:spPr>
          <a:xfrm>
            <a:off x="1332000" y="512640"/>
            <a:ext cx="563400" cy="1116000"/>
          </a:xfrm>
          <a:prstGeom prst="pie">
            <a:avLst/>
          </a:prstGeom>
          <a:solidFill>
            <a:srgbClr val="f2fb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6119640" y="7920"/>
            <a:ext cx="4795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"/>
          <p:cNvSpPr/>
          <p:nvPr/>
        </p:nvSpPr>
        <p:spPr>
          <a:xfrm>
            <a:off x="8377200" y="187200"/>
            <a:ext cx="479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3"/>
          <p:cNvSpPr/>
          <p:nvPr/>
        </p:nvSpPr>
        <p:spPr>
          <a:xfrm>
            <a:off x="8202600" y="2116080"/>
            <a:ext cx="4795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3"/>
          <p:cNvSpPr/>
          <p:nvPr/>
        </p:nvSpPr>
        <p:spPr>
          <a:xfrm>
            <a:off x="7435800" y="1216080"/>
            <a:ext cx="898560" cy="592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5"/>
          <p:cNvSpPr/>
          <p:nvPr/>
        </p:nvSpPr>
        <p:spPr>
          <a:xfrm>
            <a:off x="1332000" y="476280"/>
            <a:ext cx="574560" cy="7621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9"/>
          <p:cNvSpPr/>
          <p:nvPr/>
        </p:nvSpPr>
        <p:spPr>
          <a:xfrm>
            <a:off x="0" y="260280"/>
            <a:ext cx="479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0"/>
          <p:cNvSpPr/>
          <p:nvPr/>
        </p:nvSpPr>
        <p:spPr>
          <a:xfrm>
            <a:off x="2771640" y="115920"/>
            <a:ext cx="47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1"/>
          <p:cNvSpPr/>
          <p:nvPr/>
        </p:nvSpPr>
        <p:spPr>
          <a:xfrm>
            <a:off x="719280" y="2131920"/>
            <a:ext cx="4791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60"/>
          <p:cNvSpPr/>
          <p:nvPr/>
        </p:nvSpPr>
        <p:spPr>
          <a:xfrm>
            <a:off x="4732200" y="2832120"/>
            <a:ext cx="873360" cy="601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61"/>
          <p:cNvSpPr/>
          <p:nvPr/>
        </p:nvSpPr>
        <p:spPr>
          <a:xfrm>
            <a:off x="3855960" y="2925720"/>
            <a:ext cx="860400" cy="739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2"/>
          <p:cNvSpPr/>
          <p:nvPr/>
        </p:nvSpPr>
        <p:spPr>
          <a:xfrm>
            <a:off x="4297320" y="2165400"/>
            <a:ext cx="574560" cy="7714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63"/>
          <p:cNvSpPr/>
          <p:nvPr/>
        </p:nvSpPr>
        <p:spPr>
          <a:xfrm>
            <a:off x="3279600" y="2035080"/>
            <a:ext cx="1587600" cy="162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64"/>
          <p:cNvSpPr/>
          <p:nvPr/>
        </p:nvSpPr>
        <p:spPr>
          <a:xfrm>
            <a:off x="4299120" y="1955880"/>
            <a:ext cx="169524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65"/>
          <p:cNvSpPr/>
          <p:nvPr/>
        </p:nvSpPr>
        <p:spPr>
          <a:xfrm>
            <a:off x="3870360" y="284004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6"/>
          <p:cNvSpPr/>
          <p:nvPr/>
        </p:nvSpPr>
        <p:spPr>
          <a:xfrm>
            <a:off x="3119400" y="1700280"/>
            <a:ext cx="479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7"/>
          <p:cNvSpPr/>
          <p:nvPr/>
        </p:nvSpPr>
        <p:spPr>
          <a:xfrm>
            <a:off x="5964120" y="2384280"/>
            <a:ext cx="4795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8"/>
          <p:cNvSpPr/>
          <p:nvPr/>
        </p:nvSpPr>
        <p:spPr>
          <a:xfrm>
            <a:off x="5491080" y="3736800"/>
            <a:ext cx="4795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71"/>
          <p:cNvSpPr/>
          <p:nvPr/>
        </p:nvSpPr>
        <p:spPr>
          <a:xfrm>
            <a:off x="1042920" y="4076640"/>
            <a:ext cx="860400" cy="7398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76"/>
          <p:cNvSpPr/>
          <p:nvPr/>
        </p:nvSpPr>
        <p:spPr>
          <a:xfrm>
            <a:off x="216000" y="3102120"/>
            <a:ext cx="479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77"/>
          <p:cNvSpPr/>
          <p:nvPr/>
        </p:nvSpPr>
        <p:spPr>
          <a:xfrm>
            <a:off x="1727280" y="2637000"/>
            <a:ext cx="479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78"/>
          <p:cNvSpPr/>
          <p:nvPr/>
        </p:nvSpPr>
        <p:spPr>
          <a:xfrm>
            <a:off x="900000" y="5013360"/>
            <a:ext cx="4795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74"/>
          <p:cNvSpPr/>
          <p:nvPr/>
        </p:nvSpPr>
        <p:spPr>
          <a:xfrm>
            <a:off x="1476360" y="3103560"/>
            <a:ext cx="169560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90"/>
          <p:cNvSpPr/>
          <p:nvPr/>
        </p:nvSpPr>
        <p:spPr>
          <a:xfrm>
            <a:off x="6012000" y="403200"/>
            <a:ext cx="1587240" cy="162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8"/>
          <p:cNvSpPr/>
          <p:nvPr/>
        </p:nvSpPr>
        <p:spPr>
          <a:xfrm>
            <a:off x="6012000" y="403200"/>
            <a:ext cx="1587240" cy="162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9"/>
          <p:cNvSpPr/>
          <p:nvPr/>
        </p:nvSpPr>
        <p:spPr>
          <a:xfrm>
            <a:off x="7010280" y="334800"/>
            <a:ext cx="1695600" cy="1471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0"/>
          <p:cNvSpPr/>
          <p:nvPr/>
        </p:nvSpPr>
        <p:spPr>
          <a:xfrm>
            <a:off x="6624720" y="123984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8"/>
          <p:cNvSpPr/>
          <p:nvPr/>
        </p:nvSpPr>
        <p:spPr>
          <a:xfrm>
            <a:off x="900000" y="1160640"/>
            <a:ext cx="1770120" cy="1377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57"/>
          <p:cNvSpPr/>
          <p:nvPr/>
        </p:nvSpPr>
        <p:spPr>
          <a:xfrm>
            <a:off x="900000" y="1160640"/>
            <a:ext cx="1770120" cy="1377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7"/>
          <p:cNvSpPr/>
          <p:nvPr/>
        </p:nvSpPr>
        <p:spPr>
          <a:xfrm>
            <a:off x="1322280" y="262080"/>
            <a:ext cx="1693800" cy="1450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6"/>
          <p:cNvSpPr/>
          <p:nvPr/>
        </p:nvSpPr>
        <p:spPr>
          <a:xfrm>
            <a:off x="303120" y="339840"/>
            <a:ext cx="1587600" cy="1606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91"/>
          <p:cNvSpPr/>
          <p:nvPr/>
        </p:nvSpPr>
        <p:spPr>
          <a:xfrm>
            <a:off x="3095640" y="657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A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 – 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73"/>
          <p:cNvSpPr/>
          <p:nvPr/>
        </p:nvSpPr>
        <p:spPr>
          <a:xfrm>
            <a:off x="447840" y="3187800"/>
            <a:ext cx="1587240" cy="162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5"/>
          <p:cNvSpPr/>
          <p:nvPr/>
        </p:nvSpPr>
        <p:spPr>
          <a:xfrm>
            <a:off x="1038240" y="3992400"/>
            <a:ext cx="1771560" cy="1397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92"/>
          <p:cNvSpPr/>
          <p:nvPr/>
        </p:nvSpPr>
        <p:spPr>
          <a:xfrm>
            <a:off x="6516720" y="274464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B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– 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3"/>
          <p:cNvSpPr/>
          <p:nvPr/>
        </p:nvSpPr>
        <p:spPr>
          <a:xfrm>
            <a:off x="2808360" y="472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[(A</a:t>
            </a: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) – 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5"/>
          <p:cNvSpPr/>
          <p:nvPr/>
        </p:nvSpPr>
        <p:spPr>
          <a:xfrm>
            <a:off x="3635280" y="5837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96"/>
          <p:cNvSpPr/>
          <p:nvPr/>
        </p:nvSpPr>
        <p:spPr>
          <a:xfrm>
            <a:off x="6156360" y="58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97"/>
          <p:cNvSpPr/>
          <p:nvPr/>
        </p:nvSpPr>
        <p:spPr>
          <a:xfrm rot="5400000">
            <a:off x="4103640" y="152244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8"/>
          <p:cNvSpPr/>
          <p:nvPr/>
        </p:nvSpPr>
        <p:spPr>
          <a:xfrm rot="10800000">
            <a:off x="5724360" y="321300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99"/>
          <p:cNvSpPr/>
          <p:nvPr/>
        </p:nvSpPr>
        <p:spPr>
          <a:xfrm rot="17459400">
            <a:off x="3107160" y="4165920"/>
            <a:ext cx="1081080" cy="250920"/>
          </a:xfrm>
          <a:prstGeom prst="rightArrow">
            <a:avLst>
              <a:gd name="adj1" fmla="val 50000"/>
              <a:gd name="adj2" fmla="val 107712"/>
            </a:avLst>
          </a:prstGeom>
          <a:solidFill>
            <a:srgbClr val="e71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2" dur="indefinite" restart="never" nodeType="tmRoot">
          <p:childTnLst>
            <p:seq>
              <p:cTn id="3443" dur="indefinite" nodeType="mainSeq">
                <p:childTnLst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500"/>
                            </p:stCondLst>
                            <p:childTnLst>
                              <p:par>
                                <p:cTn id="3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500"/>
                            </p:stCondLst>
                            <p:childTnLst>
                              <p:par>
                                <p:cTn id="3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5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9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9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00"/>
                            </p:stCondLst>
                            <p:childTnLst>
                              <p:par>
                                <p:cTn id="3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0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mph" presetID="2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4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9" nodeType="withEffect" fill="hold" presetClass="emph" presetID="2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5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5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2" fill="hold">
                            <p:stCondLst>
                              <p:cond delay="500"/>
                            </p:stCondLst>
                            <p:childTnLst>
                              <p:par>
                                <p:cTn id="3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1" nodeType="withEffect" fill="hold" presetClass="emph" presetID="23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0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1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500"/>
                            </p:stCondLst>
                            <p:childTnLst>
                              <p:par>
                                <p:cTn id="3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4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7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2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10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8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10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10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6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7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5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100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5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1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11042 0.15741 E">
                                      <p:cBhvr>
                                        <p:cTn id="3681" dur="1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4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0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6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7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8" dur="10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2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8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3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3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8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0209 0.44097 E">
                                      <p:cBhvr>
                                        <p:cTn id="3748" dur="1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1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7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9" dur="10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3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9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5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10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1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4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8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9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5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1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0"/>
          <p:cNvSpPr/>
          <p:nvPr/>
        </p:nvSpPr>
        <p:spPr>
          <a:xfrm>
            <a:off x="5435640" y="6058080"/>
            <a:ext cx="2376360" cy="576000"/>
          </a:xfrm>
          <a:prstGeom prst="rect">
            <a:avLst/>
          </a:prstGeom>
          <a:solidFill>
            <a:srgbClr val="fbc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7"/>
          <p:cNvSpPr/>
          <p:nvPr/>
        </p:nvSpPr>
        <p:spPr>
          <a:xfrm>
            <a:off x="792000" y="6093000"/>
            <a:ext cx="3780000" cy="576000"/>
          </a:xfrm>
          <a:prstGeom prst="rect">
            <a:avLst/>
          </a:prstGeom>
          <a:solidFill>
            <a:srgbClr val="fbc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3"/>
          <p:cNvSpPr/>
          <p:nvPr/>
        </p:nvSpPr>
        <p:spPr>
          <a:xfrm>
            <a:off x="4964040" y="2709720"/>
            <a:ext cx="57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5"/>
          <p:cNvSpPr/>
          <p:nvPr/>
        </p:nvSpPr>
        <p:spPr>
          <a:xfrm>
            <a:off x="8136000" y="2709720"/>
            <a:ext cx="6048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27"/>
          <p:cNvSpPr/>
          <p:nvPr/>
        </p:nvSpPr>
        <p:spPr>
          <a:xfrm rot="16200000">
            <a:off x="5199840" y="1933920"/>
            <a:ext cx="2662200" cy="2774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28"/>
          <p:cNvSpPr/>
          <p:nvPr/>
        </p:nvSpPr>
        <p:spPr>
          <a:xfrm rot="5622600">
            <a:off x="5989680" y="2003760"/>
            <a:ext cx="2660760" cy="2776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31"/>
          <p:cNvSpPr/>
          <p:nvPr/>
        </p:nvSpPr>
        <p:spPr>
          <a:xfrm>
            <a:off x="1249200" y="453960"/>
            <a:ext cx="966960" cy="938160"/>
          </a:xfrm>
          <a:prstGeom prst="pie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32"/>
          <p:cNvSpPr/>
          <p:nvPr/>
        </p:nvSpPr>
        <p:spPr>
          <a:xfrm>
            <a:off x="2251080" y="461880"/>
            <a:ext cx="1017720" cy="1095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33"/>
          <p:cNvSpPr/>
          <p:nvPr/>
        </p:nvSpPr>
        <p:spPr>
          <a:xfrm>
            <a:off x="3222720" y="1535040"/>
            <a:ext cx="787320" cy="765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34"/>
          <p:cNvSpPr/>
          <p:nvPr/>
        </p:nvSpPr>
        <p:spPr>
          <a:xfrm>
            <a:off x="2289240" y="2295360"/>
            <a:ext cx="963720" cy="8445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35"/>
          <p:cNvSpPr/>
          <p:nvPr/>
        </p:nvSpPr>
        <p:spPr>
          <a:xfrm>
            <a:off x="1166760" y="2133720"/>
            <a:ext cx="1069920" cy="1004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36"/>
          <p:cNvSpPr/>
          <p:nvPr/>
        </p:nvSpPr>
        <p:spPr>
          <a:xfrm>
            <a:off x="492120" y="1422360"/>
            <a:ext cx="797040" cy="746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7"/>
          <p:cNvSpPr/>
          <p:nvPr/>
        </p:nvSpPr>
        <p:spPr>
          <a:xfrm>
            <a:off x="287280" y="1197000"/>
            <a:ext cx="57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38"/>
          <p:cNvSpPr/>
          <p:nvPr/>
        </p:nvSpPr>
        <p:spPr>
          <a:xfrm>
            <a:off x="1778040" y="1490760"/>
            <a:ext cx="971640" cy="590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9"/>
          <p:cNvSpPr/>
          <p:nvPr/>
        </p:nvSpPr>
        <p:spPr>
          <a:xfrm>
            <a:off x="1403280" y="44280"/>
            <a:ext cx="6048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0"/>
          <p:cNvSpPr/>
          <p:nvPr/>
        </p:nvSpPr>
        <p:spPr>
          <a:xfrm>
            <a:off x="1440000" y="1268280"/>
            <a:ext cx="637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41"/>
          <p:cNvSpPr/>
          <p:nvPr/>
        </p:nvSpPr>
        <p:spPr>
          <a:xfrm rot="16200000">
            <a:off x="523080" y="419400"/>
            <a:ext cx="2662200" cy="2775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2"/>
          <p:cNvSpPr/>
          <p:nvPr/>
        </p:nvSpPr>
        <p:spPr>
          <a:xfrm rot="5622600">
            <a:off x="1313280" y="494280"/>
            <a:ext cx="2660400" cy="277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45"/>
          <p:cNvSpPr/>
          <p:nvPr/>
        </p:nvSpPr>
        <p:spPr>
          <a:xfrm>
            <a:off x="5864400" y="2471760"/>
            <a:ext cx="2058840" cy="17143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46"/>
          <p:cNvSpPr/>
          <p:nvPr/>
        </p:nvSpPr>
        <p:spPr>
          <a:xfrm>
            <a:off x="5864400" y="2471760"/>
            <a:ext cx="2074680" cy="1714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3"/>
          <p:cNvSpPr/>
          <p:nvPr/>
        </p:nvSpPr>
        <p:spPr>
          <a:xfrm rot="16200000">
            <a:off x="5199840" y="1932120"/>
            <a:ext cx="2662200" cy="2774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e71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44"/>
          <p:cNvSpPr/>
          <p:nvPr/>
        </p:nvSpPr>
        <p:spPr>
          <a:xfrm rot="5622600">
            <a:off x="5992920" y="2003760"/>
            <a:ext cx="2660760" cy="2776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7"/>
          <p:cNvSpPr/>
          <p:nvPr/>
        </p:nvSpPr>
        <p:spPr>
          <a:xfrm>
            <a:off x="4896000" y="260280"/>
            <a:ext cx="38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serva como se obtiene la región sombre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8"/>
          <p:cNvSpPr/>
          <p:nvPr/>
        </p:nvSpPr>
        <p:spPr>
          <a:xfrm>
            <a:off x="34920" y="332100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da la zona de amarillo es 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9"/>
          <p:cNvSpPr/>
          <p:nvPr/>
        </p:nvSpPr>
        <p:spPr>
          <a:xfrm>
            <a:off x="34920" y="4184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zona de verde es 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0"/>
          <p:cNvSpPr/>
          <p:nvPr/>
        </p:nvSpPr>
        <p:spPr>
          <a:xfrm>
            <a:off x="34920" y="468936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onces restando se obtiene la zona que se ve en la figura :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-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51"/>
          <p:cNvSpPr/>
          <p:nvPr/>
        </p:nvSpPr>
        <p:spPr>
          <a:xfrm>
            <a:off x="6516720" y="3068640"/>
            <a:ext cx="971640" cy="590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2"/>
          <p:cNvSpPr/>
          <p:nvPr/>
        </p:nvSpPr>
        <p:spPr>
          <a:xfrm>
            <a:off x="6156360" y="2781360"/>
            <a:ext cx="638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53"/>
          <p:cNvSpPr/>
          <p:nvPr/>
        </p:nvSpPr>
        <p:spPr>
          <a:xfrm>
            <a:off x="34920" y="55897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nalmente le agregamos C y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56"/>
          <p:cNvSpPr/>
          <p:nvPr/>
        </p:nvSpPr>
        <p:spPr>
          <a:xfrm>
            <a:off x="1005840" y="612936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[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- (A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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] 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8"/>
          <p:cNvSpPr/>
          <p:nvPr/>
        </p:nvSpPr>
        <p:spPr>
          <a:xfrm>
            <a:off x="5472000" y="6093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 A </a:t>
            </a:r>
            <a:r>
              <a:rPr b="1" lang="es-E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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B ) </a:t>
            </a:r>
            <a:r>
              <a:rPr b="1" lang="es-ES" sz="2800" spc="-1" strike="noStrike">
                <a:solidFill>
                  <a:srgbClr val="000000"/>
                </a:solidFill>
                <a:latin typeface="simbolo"/>
                <a:ea typeface="simbolo"/>
              </a:rPr>
              <a:t>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9"/>
          <p:cNvSpPr/>
          <p:nvPr/>
        </p:nvSpPr>
        <p:spPr>
          <a:xfrm>
            <a:off x="4751280" y="6058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2"/>
          <p:cNvSpPr/>
          <p:nvPr/>
        </p:nvSpPr>
        <p:spPr>
          <a:xfrm>
            <a:off x="810108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2" dur="indefinite" restart="never" nodeType="tmRoot">
          <p:childTnLst>
            <p:seq>
              <p:cTn id="3813" dur="indefinite" nodeType="mainSeq">
                <p:childTnLst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8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7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3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4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5" dur="8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fill="hold">
                      <p:stCondLst>
                        <p:cond delay="indefinite"/>
                      </p:stCondLst>
                      <p:childTnLst>
                        <p:par>
                          <p:cTn id="3847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3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4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5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0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2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3" fill="hold">
                            <p:stCondLst>
                              <p:cond delay="2440"/>
                            </p:stCondLst>
                            <p:childTnLst>
                              <p:par>
                                <p:cTn id="38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1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2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3" dur="8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fill="hold">
                            <p:stCondLst>
                              <p:cond delay="1360"/>
                            </p:stCondLst>
                            <p:childTnLst>
                              <p:par>
                                <p:cTn id="3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0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fill="hold">
                      <p:stCondLst>
                        <p:cond delay="indefinite"/>
                      </p:stCondLst>
                      <p:childTnLst>
                        <p:par>
                          <p:cTn id="3882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8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fill="hold">
                      <p:stCondLst>
                        <p:cond delay="indefinite"/>
                      </p:stCondLst>
                      <p:childTnLst>
                        <p:par>
                          <p:cTn id="3890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5"/>
          <p:cNvSpPr/>
          <p:nvPr/>
        </p:nvSpPr>
        <p:spPr>
          <a:xfrm>
            <a:off x="1224000" y="295920"/>
            <a:ext cx="72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las preferencias de 420 personas que ven los canales A,B o C se observa que 180  ven el canal A ,240 ven el canal B y 150 no ven el canal C,los que ven por lo menos 2 canales son 230¿cuántos ven los tres can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WordArt 6"/>
          <p:cNvSpPr txBox="1"/>
          <p:nvPr/>
        </p:nvSpPr>
        <p:spPr>
          <a:xfrm>
            <a:off x="395280" y="441360"/>
            <a:ext cx="449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2050920" y="4616280"/>
            <a:ext cx="4249800" cy="75744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8">
            <a:hlinkClick r:id="" action="ppaction://hlinkshowjump?jump=nextslide"/>
          </p:cNvPr>
          <p:cNvSpPr/>
          <p:nvPr/>
        </p:nvSpPr>
        <p:spPr>
          <a:xfrm>
            <a:off x="4643280" y="4689360"/>
            <a:ext cx="1549440" cy="612720"/>
          </a:xfrm>
          <a:custGeom>
            <a:avLst/>
            <a:gdLst>
              <a:gd name="textAreaLeft" fmla="*/ 39600 w 1549440"/>
              <a:gd name="textAreaRight" fmla="*/ 1509840 w 154944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54602" h="21600">
                <a:moveTo>
                  <a:pt x="0" y="0"/>
                </a:moveTo>
                <a:lnTo>
                  <a:pt x="54602" y="0"/>
                </a:lnTo>
                <a:lnTo>
                  <a:pt x="54602" y="21600"/>
                </a:lnTo>
                <a:lnTo>
                  <a:pt x="0" y="21600"/>
                </a:lnTo>
                <a:close/>
              </a:path>
              <a:path fill="lightenLess" w="54602" h="21600">
                <a:moveTo>
                  <a:pt x="0" y="0"/>
                </a:moveTo>
                <a:lnTo>
                  <a:pt x="54602" y="0"/>
                </a:lnTo>
                <a:lnTo>
                  <a:pt x="53202" y="1400"/>
                </a:lnTo>
                <a:lnTo>
                  <a:pt x="1400" y="1400"/>
                </a:lnTo>
                <a:close/>
              </a:path>
              <a:path fill="darken" w="54602" h="21600">
                <a:moveTo>
                  <a:pt x="54602" y="0"/>
                </a:moveTo>
                <a:lnTo>
                  <a:pt x="54602" y="21600"/>
                </a:lnTo>
                <a:lnTo>
                  <a:pt x="53202" y="20200"/>
                </a:lnTo>
                <a:lnTo>
                  <a:pt x="53202" y="1400"/>
                </a:lnTo>
                <a:close/>
              </a:path>
              <a:path fill="darkenLess" w="54602" h="21600">
                <a:moveTo>
                  <a:pt x="5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02" y="20200"/>
                </a:lnTo>
                <a:close/>
              </a:path>
              <a:path fill="lighten" w="5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602" h="21600">
                <a:moveTo>
                  <a:pt x="20295" y="3794"/>
                </a:moveTo>
                <a:lnTo>
                  <a:pt x="34308" y="10800"/>
                </a:lnTo>
                <a:lnTo>
                  <a:pt x="20295" y="17806"/>
                </a:lnTo>
                <a:close/>
              </a:path>
            </a:pathLst>
          </a:custGeom>
          <a:solidFill>
            <a:srgbClr val="edf54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9"/>
          <p:cNvSpPr/>
          <p:nvPr/>
        </p:nvSpPr>
        <p:spPr>
          <a:xfrm>
            <a:off x="2195640" y="4653000"/>
            <a:ext cx="24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Impact"/>
              </a:rPr>
              <a:t>S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4" dur="indefinite" restart="never" nodeType="tmRoot">
          <p:childTnLst>
            <p:seq>
              <p:cTn id="3905" dur="indefinite" nodeType="mainSeq">
                <p:childTnLst>
                  <p:par>
                    <p:cTn id="3906" fill="hold">
                      <p:stCondLst>
                        <p:cond delay="0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reeform 31"/>
          <p:cNvSpPr/>
          <p:nvPr/>
        </p:nvSpPr>
        <p:spPr>
          <a:xfrm>
            <a:off x="1273320" y="2828880"/>
            <a:ext cx="2430360" cy="1968480"/>
          </a:xfrm>
          <a:prstGeom prst="pie">
            <a:avLst/>
          </a:prstGeom>
          <a:solidFill>
            <a:srgbClr val="ccfd9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27"/>
          <p:cNvSpPr/>
          <p:nvPr/>
        </p:nvSpPr>
        <p:spPr>
          <a:xfrm>
            <a:off x="1295280" y="3645000"/>
            <a:ext cx="2413080" cy="2268360"/>
          </a:xfrm>
          <a:prstGeom prst="ellipse">
            <a:avLst/>
          </a:prstGeom>
          <a:solidFill>
            <a:srgbClr val="fbc9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22"/>
          <p:cNvSpPr/>
          <p:nvPr/>
        </p:nvSpPr>
        <p:spPr>
          <a:xfrm>
            <a:off x="395280" y="2637000"/>
            <a:ext cx="2340000" cy="2160360"/>
          </a:xfrm>
          <a:prstGeom prst="ellipse">
            <a:avLst/>
          </a:prstGeom>
          <a:solidFill>
            <a:srgbClr val="f2fb3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108000" y="152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universo es: 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108000" y="728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n el canal A: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4643280" y="728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n el canal B: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7"/>
          <p:cNvSpPr/>
          <p:nvPr/>
        </p:nvSpPr>
        <p:spPr>
          <a:xfrm>
            <a:off x="108000" y="1233360"/>
            <a:ext cx="48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 ven el canal C: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8"/>
          <p:cNvSpPr/>
          <p:nvPr/>
        </p:nvSpPr>
        <p:spPr>
          <a:xfrm>
            <a:off x="106200" y="1773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 si ven el canal C: 420 – 150 = 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216000" y="263700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4067280" y="256536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1116000" y="540864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1042920" y="31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"/>
          <p:cNvSpPr/>
          <p:nvPr/>
        </p:nvSpPr>
        <p:spPr>
          <a:xfrm>
            <a:off x="1511280" y="40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3"/>
          <p:cNvSpPr/>
          <p:nvPr/>
        </p:nvSpPr>
        <p:spPr>
          <a:xfrm>
            <a:off x="4608360" y="256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)       a + e + d + x 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24"/>
          <p:cNvSpPr/>
          <p:nvPr/>
        </p:nvSpPr>
        <p:spPr>
          <a:xfrm>
            <a:off x="1835280" y="2529000"/>
            <a:ext cx="2412720" cy="226836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3095640" y="3141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9"/>
          <p:cNvSpPr/>
          <p:nvPr/>
        </p:nvSpPr>
        <p:spPr>
          <a:xfrm>
            <a:off x="2016000" y="3105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087640" y="3753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2808360" y="4041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608360" y="294624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)      b + e + f + x =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2195640" y="4869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11"/>
          <p:cNvSpPr/>
          <p:nvPr/>
        </p:nvSpPr>
        <p:spPr>
          <a:xfrm>
            <a:off x="1295280" y="3645000"/>
            <a:ext cx="2413080" cy="226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4608360" y="3341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I)     d + c + f + x = 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0"/>
          <p:cNvSpPr/>
          <p:nvPr/>
        </p:nvSpPr>
        <p:spPr>
          <a:xfrm>
            <a:off x="4319640" y="3897360"/>
            <a:ext cx="48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ato: Ven por lo menos dos canales 230 ,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V)     d + e + f + x = 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0"/>
          <p:cNvSpPr/>
          <p:nvPr/>
        </p:nvSpPr>
        <p:spPr>
          <a:xfrm>
            <a:off x="1835280" y="2529000"/>
            <a:ext cx="2412720" cy="226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95280" y="2637000"/>
            <a:ext cx="2340000" cy="21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1" dur="indefinite" restart="never" nodeType="tmRoot">
          <p:childTnLst>
            <p:seq>
              <p:cTn id="3932" dur="indefinite" nodeType="mainSeq">
                <p:childTnLst>
                  <p:par>
                    <p:cTn id="3933" fill="hold">
                      <p:stCondLst>
                        <p:cond delay="0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7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8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9" dur="8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4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7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7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3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6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0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5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6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8" dur="2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2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3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3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4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200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5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6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2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6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6"/>
          <p:cNvSpPr/>
          <p:nvPr/>
        </p:nvSpPr>
        <p:spPr>
          <a:xfrm>
            <a:off x="4751280" y="5084640"/>
            <a:ext cx="1405080" cy="505080"/>
          </a:xfrm>
          <a:prstGeom prst="rect">
            <a:avLst/>
          </a:prstGeom>
          <a:solidFill>
            <a:srgbClr val="edf5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"/>
          <p:cNvSpPr/>
          <p:nvPr/>
        </p:nvSpPr>
        <p:spPr>
          <a:xfrm>
            <a:off x="50328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)       a + e + d + x 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5"/>
          <p:cNvSpPr/>
          <p:nvPr/>
        </p:nvSpPr>
        <p:spPr>
          <a:xfrm>
            <a:off x="503280" y="274464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)      b + e + f + x =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503280" y="3176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I)     d + c + f + x = 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179280" y="177012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mamos las ecuaciones (I),(II) y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1366920" y="375300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9"/>
          <p:cNvSpPr/>
          <p:nvPr/>
        </p:nvSpPr>
        <p:spPr>
          <a:xfrm>
            <a:off x="395280" y="0"/>
            <a:ext cx="9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287280" y="260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bemos que :  a+b+c+d+e+f+x =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4751280" y="404640"/>
            <a:ext cx="21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71505"/>
                </a:solidFill>
                <a:latin typeface="MT Extra"/>
                <a:ea typeface="MT Extra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254560" y="90792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7"/>
          <p:cNvSpPr/>
          <p:nvPr/>
        </p:nvSpPr>
        <p:spPr>
          <a:xfrm>
            <a:off x="250920" y="13050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tonces :  a+b+c =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8"/>
          <p:cNvSpPr/>
          <p:nvPr/>
        </p:nvSpPr>
        <p:spPr>
          <a:xfrm>
            <a:off x="1116000" y="371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+ b + c + 2(d + e + f + x) + x = 6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9"/>
          <p:cNvSpPr/>
          <p:nvPr/>
        </p:nvSpPr>
        <p:spPr>
          <a:xfrm>
            <a:off x="3635280" y="3897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MT Extra"/>
                <a:ea typeface="MT Extra"/>
              </a:rPr>
              <a:t>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20"/>
          <p:cNvSpPr/>
          <p:nvPr/>
        </p:nvSpPr>
        <p:spPr>
          <a:xfrm>
            <a:off x="1150920" y="3897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1505"/>
                </a:solidFill>
                <a:latin typeface="MT Extra"/>
                <a:ea typeface="MT Extra"/>
              </a:rPr>
              <a:t>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1"/>
          <p:cNvSpPr/>
          <p:nvPr/>
        </p:nvSpPr>
        <p:spPr>
          <a:xfrm>
            <a:off x="1619280" y="440064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2"/>
          <p:cNvSpPr/>
          <p:nvPr/>
        </p:nvSpPr>
        <p:spPr>
          <a:xfrm>
            <a:off x="4319640" y="43657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3"/>
          <p:cNvSpPr/>
          <p:nvPr/>
        </p:nvSpPr>
        <p:spPr>
          <a:xfrm>
            <a:off x="395280" y="5049720"/>
            <a:ext cx="38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90 + 560 + x =6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4"/>
          <p:cNvSpPr/>
          <p:nvPr/>
        </p:nvSpPr>
        <p:spPr>
          <a:xfrm>
            <a:off x="4140360" y="5049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5"/>
          <p:cNvSpPr/>
          <p:nvPr/>
        </p:nvSpPr>
        <p:spPr>
          <a:xfrm>
            <a:off x="4788000" y="501336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x =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7"/>
          <p:cNvSpPr/>
          <p:nvPr/>
        </p:nvSpPr>
        <p:spPr>
          <a:xfrm>
            <a:off x="73080" y="598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o significa que 40 personas ven los tres ca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28"/>
          <p:cNvSpPr/>
          <p:nvPr/>
        </p:nvSpPr>
        <p:spPr>
          <a:xfrm>
            <a:off x="8136000" y="51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eff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0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500"/>
                            </p:stCondLst>
                            <p:childTnLst>
                              <p:par>
                                <p:cTn id="4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4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5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6" dur="8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7" fill="hold">
                            <p:stCondLst>
                              <p:cond delay="1400"/>
                            </p:stCondLst>
                            <p:childTnLst>
                              <p:par>
                                <p:cTn id="4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0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3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6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9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0" fill="hold">
                      <p:stCondLst>
                        <p:cond delay="indefinite"/>
                      </p:stCondLst>
                      <p:childTnLst>
                        <p:par>
                          <p:cTn id="4101" fill="hold">
                            <p:stCondLst>
                              <p:cond delay="0"/>
                            </p:stCondLst>
                            <p:childTnLst>
                              <p:par>
                                <p:cTn id="4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5" fill="hold">
                            <p:stCondLst>
                              <p:cond delay="500"/>
                            </p:stCondLst>
                            <p:childTnLst>
                              <p:par>
                                <p:cTn id="4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8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4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7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WordArt 4"/>
          <p:cNvSpPr txBox="1"/>
          <p:nvPr/>
        </p:nvSpPr>
        <p:spPr>
          <a:xfrm>
            <a:off x="2519280" y="1521000"/>
            <a:ext cx="4068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8" dur="indefinite" restart="never" nodeType="tmRoot">
          <p:childTnLst>
            <p:seq>
              <p:cTn id="4159" dur="indefinite" nodeType="mainSeq">
                <p:childTnLst>
                  <p:par>
                    <p:cTn id="4160" fill="hold">
                      <p:stCondLst>
                        <p:cond delay="0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71280" y="4365720"/>
            <a:ext cx="867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= {a;b;c;d;e} su cardinal n(A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= {x;x;x;y;y;z}  su cardinal n(B)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06200" y="40464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teoría de conjuntos no se acostumbra repetir los elementos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conjunto {x; x; x; y; y; z } simplemente será { x; y; z 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0" y="2744640"/>
            <a:ext cx="943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 número de elementos que tiene un conjunto Q se le llama CARDINAL DEL CONJUNTO y se le representa por n(Q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056360" y="5118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416720" y="580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187280" y="333360"/>
            <a:ext cx="61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CION DE PERTENENCIA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indicar que un elemento pertenece a un conjunto se usa el símbo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6"/>
          <p:cNvGraphicFramePr/>
          <p:nvPr/>
        </p:nvGraphicFramePr>
        <p:xfrm>
          <a:off x="7416720" y="1665360"/>
          <a:ext cx="5050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1665360"/>
                    <a:ext cx="505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7"/>
          <p:cNvSpPr/>
          <p:nvPr/>
        </p:nvSpPr>
        <p:spPr>
          <a:xfrm>
            <a:off x="108000" y="20937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un elemento no  pertenece a un conjunto se usa el símbo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6300720" y="2673360"/>
          <a:ext cx="48420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673360"/>
                    <a:ext cx="484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108000" y="32846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66920" y="34290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a M = {2;4;6;8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50920" y="41497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2"/>
          <p:cNvGraphicFramePr/>
          <p:nvPr/>
        </p:nvGraphicFramePr>
        <p:xfrm>
          <a:off x="250920" y="4149720"/>
          <a:ext cx="115236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149720"/>
                    <a:ext cx="1152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3"/>
          <p:cNvSpPr/>
          <p:nvPr/>
        </p:nvSpPr>
        <p:spPr>
          <a:xfrm>
            <a:off x="1332000" y="40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ee 2 pertenece al conjunt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4"/>
          <p:cNvGraphicFramePr/>
          <p:nvPr/>
        </p:nvGraphicFramePr>
        <p:xfrm>
          <a:off x="250920" y="4797360"/>
          <a:ext cx="115236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797360"/>
                    <a:ext cx="1152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5"/>
          <p:cNvSpPr/>
          <p:nvPr/>
        </p:nvSpPr>
        <p:spPr>
          <a:xfrm>
            <a:off x="1332000" y="4724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lee 5 no pertenece al conjunt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>
            <a:hlinkClick r:id="rId9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187280" y="3333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TERMINACION DE CONJUNTOS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2133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) POR EXT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8000" y="1052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y dos formas de determinar un conjunto, por Extensión  y por Com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8000" y="270828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aquella forma mediante la cual se indica cada uno de los elementos del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8000" y="3860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79280" y="4437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 El conjunto de los números pares mayores que 5   y menores que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40000" y="5445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= { 6;8;10;12;14;16;18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1" action="ppaction://hlinksldjump"/>
          </p:cNvPr>
          <p:cNvSpPr/>
          <p:nvPr/>
        </p:nvSpPr>
        <p:spPr>
          <a:xfrm>
            <a:off x="8172360" y="6454800"/>
            <a:ext cx="971640" cy="395280"/>
          </a:xfrm>
          <a:custGeom>
            <a:avLst/>
            <a:gdLst>
              <a:gd name="textAreaLeft" fmla="*/ 25560 w 971640"/>
              <a:gd name="textAreaRight" fmla="*/ 946080 w 97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3066" h="21600">
                <a:moveTo>
                  <a:pt x="0" y="0"/>
                </a:moveTo>
                <a:lnTo>
                  <a:pt x="53066" y="0"/>
                </a:lnTo>
                <a:lnTo>
                  <a:pt x="53066" y="21600"/>
                </a:lnTo>
                <a:lnTo>
                  <a:pt x="0" y="21600"/>
                </a:lnTo>
                <a:close/>
              </a:path>
              <a:path fill="lightenLess" w="53066" h="21600">
                <a:moveTo>
                  <a:pt x="0" y="0"/>
                </a:moveTo>
                <a:lnTo>
                  <a:pt x="53066" y="0"/>
                </a:lnTo>
                <a:lnTo>
                  <a:pt x="51666" y="1400"/>
                </a:lnTo>
                <a:lnTo>
                  <a:pt x="1400" y="1400"/>
                </a:lnTo>
                <a:close/>
              </a:path>
              <a:path fill="darken" w="53066" h="21600">
                <a:moveTo>
                  <a:pt x="53066" y="0"/>
                </a:moveTo>
                <a:lnTo>
                  <a:pt x="53066" y="21600"/>
                </a:lnTo>
                <a:lnTo>
                  <a:pt x="51666" y="20200"/>
                </a:lnTo>
                <a:lnTo>
                  <a:pt x="51666" y="1400"/>
                </a:lnTo>
                <a:close/>
              </a:path>
              <a:path fill="darkenLess" w="53066" h="21600">
                <a:moveTo>
                  <a:pt x="5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6" y="20200"/>
                </a:lnTo>
                <a:close/>
              </a:path>
              <a:path fill="lighten" w="5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2f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8209080" y="6491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108000" y="476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) El conjunto de números negativos impares mayores que 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2360" y="1592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 = {-9;-7;-5;-3;-1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2920" y="2313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II) POR COM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8000" y="292428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aquella forma mediante la cual se da una propiedad que caracteriza a todos los elementos del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08000" y="4505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71505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08000" y="522936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puede entender que el conjunto P esta formado por los números 0,1,2,3,4,5,6,7,8,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126880" y="4616280"/>
            <a:ext cx="47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 = { los números  dígitos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02:20:36Z</dcterms:created>
  <dc:creator>RUBEN ALVA CABRERA</dc:creator>
  <dc:description/>
  <dc:language>en-US</dc:language>
  <cp:lastModifiedBy>admin</cp:lastModifiedBy>
  <dcterms:modified xsi:type="dcterms:W3CDTF">2010-06-10T14:22:22Z</dcterms:modified>
  <cp:revision>80</cp:revision>
  <dc:subject/>
  <dc:title>Conjuntos</dc:title>
</cp:coreProperties>
</file>